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0158413" cy="8586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2D71-86C0-44B4-AE5B-020530EDE0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96296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0E37-A614-4491-A937-69258CCF3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C7EE-A8E2-45F7-8641-4D2D2EB36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101F9-CD40-45A3-8482-91B961C196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C58D-9B29-4277-B253-E8D50DCBA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C21ED-A64B-40F3-A598-3F62FD196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21970-8D4C-4C3C-84FE-4A1F21BA8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4E6AF-3E8B-47C0-AE75-9FFB7A403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44160"/>
            <a:ext cx="914400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26BA1-9568-4437-93A1-F775EDDF2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20940-C48F-4EEA-AF22-22331C867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53A99-B5AE-4EE4-82C5-6B2EDBFF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CDA6F-1ACB-4C12-BD0D-873A83DB9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818480"/>
            <a:ext cx="2370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818480"/>
            <a:ext cx="3216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818480"/>
            <a:ext cx="2370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3320ED-8895-4506-8635-732044CA1422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09480" y="3505320"/>
            <a:ext cx="9272880" cy="3316320"/>
          </a:xfrm>
          <a:custGeom>
            <a:avLst/>
            <a:gdLst/>
            <a:ahLst/>
            <a:rect l="l" t="t" r="r" b="b"/>
            <a:pathLst>
              <a:path w="5841" h="2089">
                <a:moveTo>
                  <a:pt x="0" y="0"/>
                </a:moveTo>
                <a:lnTo>
                  <a:pt x="5840" y="0"/>
                </a:lnTo>
                <a:lnTo>
                  <a:pt x="5840" y="2088"/>
                </a:lnTo>
                <a:lnTo>
                  <a:pt x="0" y="20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85800" y="2082960"/>
            <a:ext cx="8751960" cy="1258560"/>
          </a:xfrm>
          <a:custGeom>
            <a:avLst/>
            <a:gdLst/>
            <a:ahLst/>
            <a:rect l="l" t="t" r="r" b="b"/>
            <a:pathLst>
              <a:path w="5513" h="793">
                <a:moveTo>
                  <a:pt x="0" y="0"/>
                </a:moveTo>
                <a:lnTo>
                  <a:pt x="5512" y="0"/>
                </a:lnTo>
                <a:lnTo>
                  <a:pt x="5512" y="792"/>
                </a:lnTo>
                <a:lnTo>
                  <a:pt x="0" y="7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46120" y="216000"/>
            <a:ext cx="8980560" cy="1245960"/>
          </a:xfrm>
          <a:custGeom>
            <a:avLst/>
            <a:gdLst/>
            <a:ahLst/>
            <a:rect l="l" t="t" r="r" b="b"/>
            <a:pathLst>
              <a:path w="5657" h="785">
                <a:moveTo>
                  <a:pt x="0" y="0"/>
                </a:moveTo>
                <a:lnTo>
                  <a:pt x="5656" y="0"/>
                </a:lnTo>
                <a:lnTo>
                  <a:pt x="5656" y="784"/>
                </a:lnTo>
                <a:lnTo>
                  <a:pt x="0" y="78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763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139680"/>
            <a:ext cx="8864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Objective: To be able to use algebraic express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to generate sequences and use them in proo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73200" y="2222640"/>
            <a:ext cx="921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Task 1 for each of the 16 expressions write out the first 10 terms write down any thing you notice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60240" y="3492360"/>
            <a:ext cx="8026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Task 2 divide the sugar paper into 6 se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In each section draw a t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587600" y="4559400"/>
            <a:ext cx="1523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alway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901800" y="4495680"/>
            <a:ext cx="8673840" cy="2298960"/>
            <a:chOff x="901800" y="4495680"/>
            <a:chExt cx="8673840" cy="2298960"/>
          </a:xfrm>
        </p:grpSpPr>
        <p:sp>
          <p:nvSpPr>
            <p:cNvPr id="49" name=""/>
            <p:cNvSpPr/>
            <p:nvPr/>
          </p:nvSpPr>
          <p:spPr>
            <a:xfrm>
              <a:off x="901800" y="5079960"/>
              <a:ext cx="867384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41600" y="4546440"/>
              <a:ext cx="0" cy="22482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603840" y="4572000"/>
              <a:ext cx="0" cy="217188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4127400" y="4546440"/>
              <a:ext cx="2235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226280" y="4495680"/>
              <a:ext cx="139716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76320" y="241200"/>
            <a:ext cx="9945720" cy="6402600"/>
          </a:xfrm>
          <a:custGeom>
            <a:avLst/>
            <a:gdLst/>
            <a:ahLst/>
            <a:rect l="l" t="t" r="r" b="b"/>
            <a:pathLst>
              <a:path w="6265" h="4033">
                <a:moveTo>
                  <a:pt x="0" y="0"/>
                </a:moveTo>
                <a:lnTo>
                  <a:pt x="6264" y="0"/>
                </a:lnTo>
                <a:lnTo>
                  <a:pt x="6264" y="4032"/>
                </a:lnTo>
                <a:lnTo>
                  <a:pt x="0" y="403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276720" y="190440"/>
            <a:ext cx="0" cy="6197760"/>
          </a:xfrm>
          <a:prstGeom prst="line">
            <a:avLst/>
          </a:prstGeom>
          <a:ln w="38160">
            <a:solidFill>
              <a:srgbClr val="000000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819840" y="203040"/>
            <a:ext cx="0" cy="6083640"/>
          </a:xfrm>
          <a:prstGeom prst="line">
            <a:avLst/>
          </a:prstGeom>
          <a:ln w="38160">
            <a:solidFill>
              <a:srgbClr val="000000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0440" y="3327480"/>
            <a:ext cx="9931320" cy="0"/>
          </a:xfrm>
          <a:prstGeom prst="line">
            <a:avLst/>
          </a:prstGeom>
          <a:ln w="38160">
            <a:solidFill>
              <a:srgbClr val="000000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152280" y="888840"/>
            <a:ext cx="3391200" cy="2337120"/>
            <a:chOff x="152280" y="888840"/>
            <a:chExt cx="3391200" cy="2337120"/>
          </a:xfrm>
        </p:grpSpPr>
        <p:sp>
          <p:nvSpPr>
            <p:cNvPr id="59" name=""/>
            <p:cNvSpPr/>
            <p:nvPr/>
          </p:nvSpPr>
          <p:spPr>
            <a:xfrm>
              <a:off x="406440" y="1300320"/>
              <a:ext cx="266688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89000" y="969840"/>
              <a:ext cx="0" cy="22050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492280" y="979560"/>
              <a:ext cx="0" cy="22464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1219320" y="9018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552760" y="8888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52280" y="914400"/>
              <a:ext cx="11178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1155600" y="279360"/>
            <a:ext cx="1244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ev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17520"/>
            <a:ext cx="109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od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5240" y="3276720"/>
            <a:ext cx="2895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prime numb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9200" y="30492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multiples of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05320" y="3327480"/>
            <a:ext cx="3047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square numb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6985080" y="3403440"/>
            <a:ext cx="3251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triangle numb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3556080" y="812880"/>
            <a:ext cx="3390840" cy="2336760"/>
            <a:chOff x="3556080" y="812880"/>
            <a:chExt cx="3390840" cy="2336760"/>
          </a:xfrm>
        </p:grpSpPr>
        <p:sp>
          <p:nvSpPr>
            <p:cNvPr id="72" name=""/>
            <p:cNvSpPr/>
            <p:nvPr/>
          </p:nvSpPr>
          <p:spPr>
            <a:xfrm>
              <a:off x="3809880" y="1224000"/>
              <a:ext cx="266724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92800" y="893880"/>
              <a:ext cx="0" cy="22050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5896080" y="903240"/>
              <a:ext cx="0" cy="22464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622760" y="82548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956200" y="81288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556080" y="838080"/>
              <a:ext cx="11174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921360" y="851040"/>
            <a:ext cx="3391200" cy="2336760"/>
            <a:chOff x="6921360" y="851040"/>
            <a:chExt cx="3391200" cy="2336760"/>
          </a:xfrm>
        </p:grpSpPr>
        <p:sp>
          <p:nvSpPr>
            <p:cNvPr id="79" name=""/>
            <p:cNvSpPr/>
            <p:nvPr/>
          </p:nvSpPr>
          <p:spPr>
            <a:xfrm>
              <a:off x="7175520" y="1262160"/>
              <a:ext cx="266688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858080" y="932040"/>
              <a:ext cx="0" cy="22050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9261360" y="941400"/>
              <a:ext cx="0" cy="22464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988400" y="86364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9321840" y="851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6921360" y="876240"/>
              <a:ext cx="111780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5" name=""/>
          <p:cNvGrpSpPr/>
          <p:nvPr/>
        </p:nvGrpSpPr>
        <p:grpSpPr>
          <a:xfrm>
            <a:off x="76320" y="3886200"/>
            <a:ext cx="3390840" cy="2336760"/>
            <a:chOff x="76320" y="3886200"/>
            <a:chExt cx="3390840" cy="2336760"/>
          </a:xfrm>
        </p:grpSpPr>
        <p:sp>
          <p:nvSpPr>
            <p:cNvPr id="86" name=""/>
            <p:cNvSpPr/>
            <p:nvPr/>
          </p:nvSpPr>
          <p:spPr>
            <a:xfrm>
              <a:off x="330120" y="4297320"/>
              <a:ext cx="266724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012680" y="3967200"/>
              <a:ext cx="0" cy="22050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2416320" y="3976560"/>
              <a:ext cx="0" cy="22464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143000" y="389880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476440" y="3886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6320" y="3911760"/>
              <a:ext cx="11174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3467160" y="3924360"/>
            <a:ext cx="3390840" cy="2336760"/>
            <a:chOff x="3467160" y="3924360"/>
            <a:chExt cx="3390840" cy="2336760"/>
          </a:xfrm>
        </p:grpSpPr>
        <p:sp>
          <p:nvSpPr>
            <p:cNvPr id="93" name=""/>
            <p:cNvSpPr/>
            <p:nvPr/>
          </p:nvSpPr>
          <p:spPr>
            <a:xfrm>
              <a:off x="3720960" y="4335480"/>
              <a:ext cx="266724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4403880" y="4005360"/>
              <a:ext cx="0" cy="22050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807160" y="4014720"/>
              <a:ext cx="0" cy="22464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533840" y="393696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867280" y="39243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67160" y="3949560"/>
              <a:ext cx="11174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"/>
          <p:cNvGrpSpPr/>
          <p:nvPr/>
        </p:nvGrpSpPr>
        <p:grpSpPr>
          <a:xfrm>
            <a:off x="6858000" y="3962520"/>
            <a:ext cx="3390840" cy="2336760"/>
            <a:chOff x="6858000" y="3962520"/>
            <a:chExt cx="3390840" cy="2336760"/>
          </a:xfrm>
        </p:grpSpPr>
        <p:sp>
          <p:nvSpPr>
            <p:cNvPr id="100" name=""/>
            <p:cNvSpPr/>
            <p:nvPr/>
          </p:nvSpPr>
          <p:spPr>
            <a:xfrm>
              <a:off x="7112160" y="4373640"/>
              <a:ext cx="266688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794720" y="4043520"/>
              <a:ext cx="0" cy="22050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9198000" y="4052880"/>
              <a:ext cx="0" cy="224640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924680" y="3975120"/>
              <a:ext cx="1371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9258480" y="396252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858000" y="3987720"/>
              <a:ext cx="11174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9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1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914400" y="6413400"/>
            <a:ext cx="8383680" cy="712800"/>
          </a:xfrm>
          <a:custGeom>
            <a:avLst/>
            <a:gdLst/>
            <a:ahLst/>
            <a:rect l="l" t="t" r="r" b="b"/>
            <a:pathLst>
              <a:path w="5281" h="449">
                <a:moveTo>
                  <a:pt x="0" y="0"/>
                </a:moveTo>
                <a:lnTo>
                  <a:pt x="5280" y="0"/>
                </a:lnTo>
                <a:lnTo>
                  <a:pt x="5280" y="448"/>
                </a:lnTo>
                <a:lnTo>
                  <a:pt x="0" y="448"/>
                </a:lnTo>
                <a:lnTo>
                  <a:pt x="0" y="0"/>
                </a:lnTo>
                <a:close/>
              </a:path>
            </a:pathLst>
          </a:custGeom>
          <a:solidFill>
            <a:srgbClr val="00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22360" y="6426360"/>
            <a:ext cx="764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 - 24"/>
              </a:rPr>
              <a:t>Write the expressions in the correct column.  Try to justify why you made your decis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028880" y="254160"/>
            <a:ext cx="8851680" cy="6454440"/>
            <a:chOff x="1028880" y="254160"/>
            <a:chExt cx="8851680" cy="6454440"/>
          </a:xfrm>
        </p:grpSpPr>
        <p:sp>
          <p:nvSpPr>
            <p:cNvPr id="109" name=""/>
            <p:cNvSpPr/>
            <p:nvPr/>
          </p:nvSpPr>
          <p:spPr>
            <a:xfrm>
              <a:off x="1600200" y="1387440"/>
              <a:ext cx="712008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422520" y="479520"/>
              <a:ext cx="0" cy="608796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167600" y="504720"/>
              <a:ext cx="0" cy="620388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73600" y="291960"/>
              <a:ext cx="3454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442280" y="254160"/>
              <a:ext cx="24382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028880" y="330120"/>
              <a:ext cx="2768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77840" y="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even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7162920" y="5346720"/>
            <a:ext cx="2198520" cy="1258920"/>
            <a:chOff x="7162920" y="5346720"/>
            <a:chExt cx="2198520" cy="1258920"/>
          </a:xfrm>
        </p:grpSpPr>
        <p:sp>
          <p:nvSpPr>
            <p:cNvPr id="117" name=""/>
            <p:cNvSpPr/>
            <p:nvPr/>
          </p:nvSpPr>
          <p:spPr>
            <a:xfrm>
              <a:off x="7162920" y="534672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886880" y="5524560"/>
              <a:ext cx="1193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4n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7061040" y="5435640"/>
            <a:ext cx="2198880" cy="1258920"/>
            <a:chOff x="7061040" y="5435640"/>
            <a:chExt cx="2198880" cy="1258920"/>
          </a:xfrm>
        </p:grpSpPr>
        <p:sp>
          <p:nvSpPr>
            <p:cNvPr id="120" name=""/>
            <p:cNvSpPr/>
            <p:nvPr/>
          </p:nvSpPr>
          <p:spPr>
            <a:xfrm>
              <a:off x="7061040" y="54356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480440" y="5626080"/>
              <a:ext cx="162540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2n-1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7302600" y="5029200"/>
            <a:ext cx="2198520" cy="1258920"/>
            <a:chOff x="7302600" y="5029200"/>
            <a:chExt cx="2198520" cy="1258920"/>
          </a:xfrm>
        </p:grpSpPr>
        <p:sp>
          <p:nvSpPr>
            <p:cNvPr id="123" name=""/>
            <p:cNvSpPr/>
            <p:nvPr/>
          </p:nvSpPr>
          <p:spPr>
            <a:xfrm>
              <a:off x="7302600" y="502920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72400" y="5245200"/>
              <a:ext cx="15746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+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594560" y="4991040"/>
            <a:ext cx="2198880" cy="1258920"/>
            <a:chOff x="7594560" y="4991040"/>
            <a:chExt cx="2198880" cy="1258920"/>
          </a:xfrm>
        </p:grpSpPr>
        <p:sp>
          <p:nvSpPr>
            <p:cNvPr id="126" name=""/>
            <p:cNvSpPr/>
            <p:nvPr/>
          </p:nvSpPr>
          <p:spPr>
            <a:xfrm>
              <a:off x="7594560" y="49910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8267760" y="5143680"/>
              <a:ext cx="1320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2n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8" name=""/>
          <p:cNvGrpSpPr/>
          <p:nvPr/>
        </p:nvGrpSpPr>
        <p:grpSpPr>
          <a:xfrm>
            <a:off x="7581960" y="5143680"/>
            <a:ext cx="2198520" cy="1258560"/>
            <a:chOff x="7581960" y="5143680"/>
            <a:chExt cx="2198520" cy="1258560"/>
          </a:xfrm>
        </p:grpSpPr>
        <p:sp>
          <p:nvSpPr>
            <p:cNvPr id="129" name=""/>
            <p:cNvSpPr/>
            <p:nvPr/>
          </p:nvSpPr>
          <p:spPr>
            <a:xfrm>
              <a:off x="7581960" y="51436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8318520" y="5423040"/>
              <a:ext cx="10666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7264440" y="5219640"/>
            <a:ext cx="2209680" cy="1258920"/>
            <a:chOff x="7264440" y="5219640"/>
            <a:chExt cx="2209680" cy="1258920"/>
          </a:xfrm>
        </p:grpSpPr>
        <p:sp>
          <p:nvSpPr>
            <p:cNvPr id="132" name=""/>
            <p:cNvSpPr/>
            <p:nvPr/>
          </p:nvSpPr>
          <p:spPr>
            <a:xfrm>
              <a:off x="7264440" y="52196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3" name=""/>
            <p:cNvGrpSpPr/>
            <p:nvPr/>
          </p:nvGrpSpPr>
          <p:grpSpPr>
            <a:xfrm>
              <a:off x="7531200" y="5334120"/>
              <a:ext cx="1942920" cy="1104480"/>
              <a:chOff x="7531200" y="5334120"/>
              <a:chExt cx="1942920" cy="1104480"/>
            </a:xfrm>
          </p:grpSpPr>
          <p:grpSp>
            <p:nvGrpSpPr>
              <p:cNvPr id="134" name=""/>
              <p:cNvGrpSpPr/>
              <p:nvPr/>
            </p:nvGrpSpPr>
            <p:grpSpPr>
              <a:xfrm>
                <a:off x="7531200" y="5334120"/>
                <a:ext cx="812880" cy="1104480"/>
                <a:chOff x="7531200" y="5334120"/>
                <a:chExt cx="812880" cy="1104480"/>
              </a:xfrm>
            </p:grpSpPr>
            <p:sp>
              <p:nvSpPr>
                <p:cNvPr id="135" name=""/>
                <p:cNvSpPr/>
                <p:nvPr/>
              </p:nvSpPr>
              <p:spPr>
                <a:xfrm>
                  <a:off x="7531200" y="5842080"/>
                  <a:ext cx="81288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2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543800" y="5334120"/>
                  <a:ext cx="73656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1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531200" y="5870520"/>
                  <a:ext cx="284040" cy="0"/>
                </a:xfrm>
                <a:prstGeom prst="line">
                  <a:avLst/>
                </a:prstGeom>
                <a:ln w="38160">
                  <a:solidFill>
                    <a:srgbClr val="000000">
                      <a:alpha val="84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38" name=""/>
              <p:cNvSpPr/>
              <p:nvPr/>
            </p:nvSpPr>
            <p:spPr>
              <a:xfrm>
                <a:off x="7823160" y="5537160"/>
                <a:ext cx="1650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omic Sans MS - 28"/>
                  </a:rPr>
                  <a:t>n(n+1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9" name=""/>
          <p:cNvGrpSpPr/>
          <p:nvPr/>
        </p:nvGrpSpPr>
        <p:grpSpPr>
          <a:xfrm>
            <a:off x="7518240" y="5372280"/>
            <a:ext cx="2374920" cy="1258560"/>
            <a:chOff x="7518240" y="5372280"/>
            <a:chExt cx="2374920" cy="1258560"/>
          </a:xfrm>
        </p:grpSpPr>
        <p:sp>
          <p:nvSpPr>
            <p:cNvPr id="140" name=""/>
            <p:cNvSpPr/>
            <p:nvPr/>
          </p:nvSpPr>
          <p:spPr>
            <a:xfrm>
              <a:off x="7518240" y="5372280"/>
              <a:ext cx="219888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88400" y="5702400"/>
              <a:ext cx="1904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(n+1)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7302600" y="5880240"/>
            <a:ext cx="2198520" cy="1258920"/>
            <a:chOff x="7302600" y="5880240"/>
            <a:chExt cx="2198520" cy="1258920"/>
          </a:xfrm>
        </p:grpSpPr>
        <p:sp>
          <p:nvSpPr>
            <p:cNvPr id="143" name=""/>
            <p:cNvSpPr/>
            <p:nvPr/>
          </p:nvSpPr>
          <p:spPr>
            <a:xfrm>
              <a:off x="7302600" y="58802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7746840" y="6159600"/>
              <a:ext cx="15750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6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-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7391520" y="5079960"/>
            <a:ext cx="2198520" cy="1258920"/>
            <a:chOff x="7391520" y="5079960"/>
            <a:chExt cx="2198520" cy="1258920"/>
          </a:xfrm>
        </p:grpSpPr>
        <p:sp>
          <p:nvSpPr>
            <p:cNvPr id="146" name=""/>
            <p:cNvSpPr/>
            <p:nvPr/>
          </p:nvSpPr>
          <p:spPr>
            <a:xfrm>
              <a:off x="7391520" y="507996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899480" y="5270400"/>
              <a:ext cx="1600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3n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7124760" y="5600880"/>
            <a:ext cx="2198520" cy="1258560"/>
            <a:chOff x="7124760" y="5600880"/>
            <a:chExt cx="2198520" cy="1258560"/>
          </a:xfrm>
        </p:grpSpPr>
        <p:sp>
          <p:nvSpPr>
            <p:cNvPr id="149" name=""/>
            <p:cNvSpPr/>
            <p:nvPr/>
          </p:nvSpPr>
          <p:spPr>
            <a:xfrm>
              <a:off x="7124760" y="56008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7721640" y="5727600"/>
              <a:ext cx="12700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200" spc="-1" strike="noStrike">
                  <a:solidFill>
                    <a:srgbClr val="000000"/>
                  </a:solidFill>
                  <a:latin typeface="Comic Sans MS - 28"/>
                </a:rPr>
                <a:t>3n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404120" y="5423040"/>
            <a:ext cx="2198520" cy="1258920"/>
            <a:chOff x="7404120" y="5423040"/>
            <a:chExt cx="2198520" cy="1258920"/>
          </a:xfrm>
        </p:grpSpPr>
        <p:sp>
          <p:nvSpPr>
            <p:cNvPr id="152" name=""/>
            <p:cNvSpPr/>
            <p:nvPr/>
          </p:nvSpPr>
          <p:spPr>
            <a:xfrm>
              <a:off x="740412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988400" y="558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 - 28"/>
                </a:rPr>
                <a:t>6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4" name=""/>
          <p:cNvGrpSpPr/>
          <p:nvPr/>
        </p:nvGrpSpPr>
        <p:grpSpPr>
          <a:xfrm>
            <a:off x="7404120" y="5689440"/>
            <a:ext cx="2198520" cy="1258920"/>
            <a:chOff x="7404120" y="5689440"/>
            <a:chExt cx="2198520" cy="1258920"/>
          </a:xfrm>
        </p:grpSpPr>
        <p:sp>
          <p:nvSpPr>
            <p:cNvPr id="155" name=""/>
            <p:cNvSpPr/>
            <p:nvPr/>
          </p:nvSpPr>
          <p:spPr>
            <a:xfrm>
              <a:off x="7404120" y="56894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835760" y="5943600"/>
              <a:ext cx="167652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4n+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7" name=""/>
          <p:cNvGrpSpPr/>
          <p:nvPr/>
        </p:nvGrpSpPr>
        <p:grpSpPr>
          <a:xfrm>
            <a:off x="7277040" y="5194440"/>
            <a:ext cx="2198880" cy="1258920"/>
            <a:chOff x="7277040" y="5194440"/>
            <a:chExt cx="2198880" cy="1258920"/>
          </a:xfrm>
        </p:grpSpPr>
        <p:sp>
          <p:nvSpPr>
            <p:cNvPr id="158" name=""/>
            <p:cNvSpPr/>
            <p:nvPr/>
          </p:nvSpPr>
          <p:spPr>
            <a:xfrm>
              <a:off x="7277040" y="51944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8026560" y="5448240"/>
              <a:ext cx="11937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700" spc="-1" strike="noStrike" baseline="70000">
                  <a:solidFill>
                    <a:srgbClr val="000000"/>
                  </a:solidFill>
                  <a:latin typeface="Comic Sans MS - 28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7480440" y="5423040"/>
            <a:ext cx="2198520" cy="1258920"/>
            <a:chOff x="7480440" y="5423040"/>
            <a:chExt cx="2198520" cy="1258920"/>
          </a:xfrm>
        </p:grpSpPr>
        <p:sp>
          <p:nvSpPr>
            <p:cNvPr id="161" name=""/>
            <p:cNvSpPr/>
            <p:nvPr/>
          </p:nvSpPr>
          <p:spPr>
            <a:xfrm>
              <a:off x="748044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975440" y="5727600"/>
              <a:ext cx="15242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-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7467480" y="5334120"/>
            <a:ext cx="2198880" cy="1258920"/>
            <a:chOff x="7467480" y="5334120"/>
            <a:chExt cx="2198880" cy="1258920"/>
          </a:xfrm>
        </p:grpSpPr>
        <p:sp>
          <p:nvSpPr>
            <p:cNvPr id="164" name=""/>
            <p:cNvSpPr/>
            <p:nvPr/>
          </p:nvSpPr>
          <p:spPr>
            <a:xfrm>
              <a:off x="7467480" y="533412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7975440" y="5626080"/>
              <a:ext cx="1651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 - 28"/>
                </a:rPr>
                <a:t>3n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7365960" y="5626080"/>
            <a:ext cx="2198880" cy="1258920"/>
            <a:chOff x="7365960" y="5626080"/>
            <a:chExt cx="2198880" cy="1258920"/>
          </a:xfrm>
        </p:grpSpPr>
        <p:sp>
          <p:nvSpPr>
            <p:cNvPr id="167" name=""/>
            <p:cNvSpPr/>
            <p:nvPr/>
          </p:nvSpPr>
          <p:spPr>
            <a:xfrm>
              <a:off x="7365960" y="562608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7721640" y="5956200"/>
              <a:ext cx="1752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2n 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9" name=""/>
          <p:cNvGrpSpPr/>
          <p:nvPr/>
        </p:nvGrpSpPr>
        <p:grpSpPr>
          <a:xfrm>
            <a:off x="1028880" y="254160"/>
            <a:ext cx="8851680" cy="6454440"/>
            <a:chOff x="1028880" y="254160"/>
            <a:chExt cx="8851680" cy="6454440"/>
          </a:xfrm>
        </p:grpSpPr>
        <p:sp>
          <p:nvSpPr>
            <p:cNvPr id="170" name=""/>
            <p:cNvSpPr/>
            <p:nvPr/>
          </p:nvSpPr>
          <p:spPr>
            <a:xfrm>
              <a:off x="1600200" y="1387440"/>
              <a:ext cx="712008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422520" y="479520"/>
              <a:ext cx="0" cy="608796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167600" y="504720"/>
              <a:ext cx="0" cy="620388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73600" y="291960"/>
              <a:ext cx="3454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42280" y="254160"/>
              <a:ext cx="24382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028880" y="330120"/>
              <a:ext cx="2768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177840" y="0"/>
            <a:ext cx="259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odd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" name=""/>
          <p:cNvGrpSpPr/>
          <p:nvPr/>
        </p:nvGrpSpPr>
        <p:grpSpPr>
          <a:xfrm>
            <a:off x="7162920" y="5346720"/>
            <a:ext cx="2198520" cy="1258920"/>
            <a:chOff x="7162920" y="5346720"/>
            <a:chExt cx="2198520" cy="1258920"/>
          </a:xfrm>
        </p:grpSpPr>
        <p:sp>
          <p:nvSpPr>
            <p:cNvPr id="178" name=""/>
            <p:cNvSpPr/>
            <p:nvPr/>
          </p:nvSpPr>
          <p:spPr>
            <a:xfrm>
              <a:off x="7162920" y="534672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7886880" y="5524560"/>
              <a:ext cx="1193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4n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0" name=""/>
          <p:cNvGrpSpPr/>
          <p:nvPr/>
        </p:nvGrpSpPr>
        <p:grpSpPr>
          <a:xfrm>
            <a:off x="7061040" y="5435640"/>
            <a:ext cx="2198880" cy="1258920"/>
            <a:chOff x="7061040" y="5435640"/>
            <a:chExt cx="2198880" cy="1258920"/>
          </a:xfrm>
        </p:grpSpPr>
        <p:sp>
          <p:nvSpPr>
            <p:cNvPr id="181" name=""/>
            <p:cNvSpPr/>
            <p:nvPr/>
          </p:nvSpPr>
          <p:spPr>
            <a:xfrm>
              <a:off x="7061040" y="54356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480440" y="5626080"/>
              <a:ext cx="162540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2n-1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7302600" y="5029200"/>
            <a:ext cx="2198520" cy="1258920"/>
            <a:chOff x="7302600" y="5029200"/>
            <a:chExt cx="2198520" cy="1258920"/>
          </a:xfrm>
        </p:grpSpPr>
        <p:sp>
          <p:nvSpPr>
            <p:cNvPr id="184" name=""/>
            <p:cNvSpPr/>
            <p:nvPr/>
          </p:nvSpPr>
          <p:spPr>
            <a:xfrm>
              <a:off x="7302600" y="502920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772400" y="5245200"/>
              <a:ext cx="15746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+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7594560" y="4991040"/>
            <a:ext cx="2198880" cy="1258920"/>
            <a:chOff x="7594560" y="4991040"/>
            <a:chExt cx="2198880" cy="1258920"/>
          </a:xfrm>
        </p:grpSpPr>
        <p:sp>
          <p:nvSpPr>
            <p:cNvPr id="187" name=""/>
            <p:cNvSpPr/>
            <p:nvPr/>
          </p:nvSpPr>
          <p:spPr>
            <a:xfrm>
              <a:off x="7594560" y="49910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267760" y="5143680"/>
              <a:ext cx="1320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2n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9" name=""/>
          <p:cNvGrpSpPr/>
          <p:nvPr/>
        </p:nvGrpSpPr>
        <p:grpSpPr>
          <a:xfrm>
            <a:off x="7581960" y="5143680"/>
            <a:ext cx="2198520" cy="1258560"/>
            <a:chOff x="7581960" y="5143680"/>
            <a:chExt cx="2198520" cy="1258560"/>
          </a:xfrm>
        </p:grpSpPr>
        <p:sp>
          <p:nvSpPr>
            <p:cNvPr id="190" name=""/>
            <p:cNvSpPr/>
            <p:nvPr/>
          </p:nvSpPr>
          <p:spPr>
            <a:xfrm>
              <a:off x="7581960" y="51436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318520" y="5423040"/>
              <a:ext cx="10666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264440" y="5219640"/>
            <a:ext cx="2209680" cy="1258920"/>
            <a:chOff x="7264440" y="5219640"/>
            <a:chExt cx="2209680" cy="1258920"/>
          </a:xfrm>
        </p:grpSpPr>
        <p:sp>
          <p:nvSpPr>
            <p:cNvPr id="193" name=""/>
            <p:cNvSpPr/>
            <p:nvPr/>
          </p:nvSpPr>
          <p:spPr>
            <a:xfrm>
              <a:off x="7264440" y="52196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4" name=""/>
            <p:cNvGrpSpPr/>
            <p:nvPr/>
          </p:nvGrpSpPr>
          <p:grpSpPr>
            <a:xfrm>
              <a:off x="7531200" y="5334120"/>
              <a:ext cx="1942920" cy="1104480"/>
              <a:chOff x="7531200" y="5334120"/>
              <a:chExt cx="1942920" cy="1104480"/>
            </a:xfrm>
          </p:grpSpPr>
          <p:grpSp>
            <p:nvGrpSpPr>
              <p:cNvPr id="195" name=""/>
              <p:cNvGrpSpPr/>
              <p:nvPr/>
            </p:nvGrpSpPr>
            <p:grpSpPr>
              <a:xfrm>
                <a:off x="7531200" y="5334120"/>
                <a:ext cx="812880" cy="1104480"/>
                <a:chOff x="7531200" y="5334120"/>
                <a:chExt cx="812880" cy="110448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7531200" y="5842080"/>
                  <a:ext cx="81288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2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7543800" y="5334120"/>
                  <a:ext cx="73656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1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7531200" y="5870520"/>
                  <a:ext cx="284040" cy="0"/>
                </a:xfrm>
                <a:prstGeom prst="line">
                  <a:avLst/>
                </a:prstGeom>
                <a:ln w="38160">
                  <a:solidFill>
                    <a:srgbClr val="000000">
                      <a:alpha val="84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99" name=""/>
              <p:cNvSpPr/>
              <p:nvPr/>
            </p:nvSpPr>
            <p:spPr>
              <a:xfrm>
                <a:off x="7823160" y="5537160"/>
                <a:ext cx="1650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omic Sans MS - 28"/>
                  </a:rPr>
                  <a:t>n(n+1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00" name=""/>
          <p:cNvGrpSpPr/>
          <p:nvPr/>
        </p:nvGrpSpPr>
        <p:grpSpPr>
          <a:xfrm>
            <a:off x="7518240" y="5372280"/>
            <a:ext cx="2374920" cy="1258560"/>
            <a:chOff x="7518240" y="5372280"/>
            <a:chExt cx="2374920" cy="1258560"/>
          </a:xfrm>
        </p:grpSpPr>
        <p:sp>
          <p:nvSpPr>
            <p:cNvPr id="201" name=""/>
            <p:cNvSpPr/>
            <p:nvPr/>
          </p:nvSpPr>
          <p:spPr>
            <a:xfrm>
              <a:off x="7518240" y="5372280"/>
              <a:ext cx="219888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988400" y="5702400"/>
              <a:ext cx="1904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(n+1)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7302600" y="5880240"/>
            <a:ext cx="2198520" cy="1258920"/>
            <a:chOff x="7302600" y="5880240"/>
            <a:chExt cx="2198520" cy="1258920"/>
          </a:xfrm>
        </p:grpSpPr>
        <p:sp>
          <p:nvSpPr>
            <p:cNvPr id="204" name=""/>
            <p:cNvSpPr/>
            <p:nvPr/>
          </p:nvSpPr>
          <p:spPr>
            <a:xfrm>
              <a:off x="7302600" y="58802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746840" y="6159600"/>
              <a:ext cx="15750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6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-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"/>
          <p:cNvGrpSpPr/>
          <p:nvPr/>
        </p:nvGrpSpPr>
        <p:grpSpPr>
          <a:xfrm>
            <a:off x="7391520" y="5079960"/>
            <a:ext cx="2198520" cy="1258920"/>
            <a:chOff x="7391520" y="5079960"/>
            <a:chExt cx="2198520" cy="1258920"/>
          </a:xfrm>
        </p:grpSpPr>
        <p:sp>
          <p:nvSpPr>
            <p:cNvPr id="207" name=""/>
            <p:cNvSpPr/>
            <p:nvPr/>
          </p:nvSpPr>
          <p:spPr>
            <a:xfrm>
              <a:off x="7391520" y="507996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899480" y="5270400"/>
              <a:ext cx="1600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3n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9" name=""/>
          <p:cNvGrpSpPr/>
          <p:nvPr/>
        </p:nvGrpSpPr>
        <p:grpSpPr>
          <a:xfrm>
            <a:off x="7124760" y="5600880"/>
            <a:ext cx="2198520" cy="1258560"/>
            <a:chOff x="7124760" y="5600880"/>
            <a:chExt cx="2198520" cy="1258560"/>
          </a:xfrm>
        </p:grpSpPr>
        <p:sp>
          <p:nvSpPr>
            <p:cNvPr id="210" name=""/>
            <p:cNvSpPr/>
            <p:nvPr/>
          </p:nvSpPr>
          <p:spPr>
            <a:xfrm>
              <a:off x="7124760" y="56008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7721640" y="5727600"/>
              <a:ext cx="12700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200" spc="-1" strike="noStrike">
                  <a:solidFill>
                    <a:srgbClr val="000000"/>
                  </a:solidFill>
                  <a:latin typeface="Comic Sans MS - 28"/>
                </a:rPr>
                <a:t>3n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2" name=""/>
          <p:cNvGrpSpPr/>
          <p:nvPr/>
        </p:nvGrpSpPr>
        <p:grpSpPr>
          <a:xfrm>
            <a:off x="7404120" y="5423040"/>
            <a:ext cx="2198520" cy="1258920"/>
            <a:chOff x="7404120" y="5423040"/>
            <a:chExt cx="2198520" cy="1258920"/>
          </a:xfrm>
        </p:grpSpPr>
        <p:sp>
          <p:nvSpPr>
            <p:cNvPr id="213" name=""/>
            <p:cNvSpPr/>
            <p:nvPr/>
          </p:nvSpPr>
          <p:spPr>
            <a:xfrm>
              <a:off x="740412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988400" y="558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 - 28"/>
                </a:rPr>
                <a:t>6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7404120" y="5689440"/>
            <a:ext cx="2198520" cy="1258920"/>
            <a:chOff x="7404120" y="5689440"/>
            <a:chExt cx="2198520" cy="1258920"/>
          </a:xfrm>
        </p:grpSpPr>
        <p:sp>
          <p:nvSpPr>
            <p:cNvPr id="216" name=""/>
            <p:cNvSpPr/>
            <p:nvPr/>
          </p:nvSpPr>
          <p:spPr>
            <a:xfrm>
              <a:off x="7404120" y="56894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835760" y="5943600"/>
              <a:ext cx="167652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4n+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" name=""/>
          <p:cNvGrpSpPr/>
          <p:nvPr/>
        </p:nvGrpSpPr>
        <p:grpSpPr>
          <a:xfrm>
            <a:off x="7277040" y="5194440"/>
            <a:ext cx="2198880" cy="1258920"/>
            <a:chOff x="7277040" y="5194440"/>
            <a:chExt cx="2198880" cy="1258920"/>
          </a:xfrm>
        </p:grpSpPr>
        <p:sp>
          <p:nvSpPr>
            <p:cNvPr id="219" name=""/>
            <p:cNvSpPr/>
            <p:nvPr/>
          </p:nvSpPr>
          <p:spPr>
            <a:xfrm>
              <a:off x="7277040" y="51944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8026560" y="5448240"/>
              <a:ext cx="11937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700" spc="-1" strike="noStrike" baseline="70000">
                  <a:solidFill>
                    <a:srgbClr val="000000"/>
                  </a:solidFill>
                  <a:latin typeface="Comic Sans MS - 28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7480440" y="5423040"/>
            <a:ext cx="2198520" cy="1258920"/>
            <a:chOff x="7480440" y="5423040"/>
            <a:chExt cx="2198520" cy="1258920"/>
          </a:xfrm>
        </p:grpSpPr>
        <p:sp>
          <p:nvSpPr>
            <p:cNvPr id="222" name=""/>
            <p:cNvSpPr/>
            <p:nvPr/>
          </p:nvSpPr>
          <p:spPr>
            <a:xfrm>
              <a:off x="748044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975440" y="5727600"/>
              <a:ext cx="15242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-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7467480" y="5334120"/>
            <a:ext cx="2198880" cy="1258920"/>
            <a:chOff x="7467480" y="5334120"/>
            <a:chExt cx="2198880" cy="1258920"/>
          </a:xfrm>
        </p:grpSpPr>
        <p:sp>
          <p:nvSpPr>
            <p:cNvPr id="225" name=""/>
            <p:cNvSpPr/>
            <p:nvPr/>
          </p:nvSpPr>
          <p:spPr>
            <a:xfrm>
              <a:off x="7467480" y="533412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975440" y="5626080"/>
              <a:ext cx="1651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 - 28"/>
                </a:rPr>
                <a:t>3n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7365960" y="5626080"/>
            <a:ext cx="2198880" cy="1258920"/>
            <a:chOff x="7365960" y="5626080"/>
            <a:chExt cx="2198880" cy="1258920"/>
          </a:xfrm>
        </p:grpSpPr>
        <p:sp>
          <p:nvSpPr>
            <p:cNvPr id="228" name=""/>
            <p:cNvSpPr/>
            <p:nvPr/>
          </p:nvSpPr>
          <p:spPr>
            <a:xfrm>
              <a:off x="7365960" y="562608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7721640" y="5956200"/>
              <a:ext cx="1752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2n 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0" name=""/>
          <p:cNvGrpSpPr/>
          <p:nvPr/>
        </p:nvGrpSpPr>
        <p:grpSpPr>
          <a:xfrm>
            <a:off x="1028880" y="254160"/>
            <a:ext cx="8851680" cy="6454440"/>
            <a:chOff x="1028880" y="254160"/>
            <a:chExt cx="8851680" cy="6454440"/>
          </a:xfrm>
        </p:grpSpPr>
        <p:sp>
          <p:nvSpPr>
            <p:cNvPr id="231" name=""/>
            <p:cNvSpPr/>
            <p:nvPr/>
          </p:nvSpPr>
          <p:spPr>
            <a:xfrm>
              <a:off x="1600200" y="1387440"/>
              <a:ext cx="712008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422520" y="479520"/>
              <a:ext cx="0" cy="608796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167600" y="504720"/>
              <a:ext cx="0" cy="620388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873600" y="291960"/>
              <a:ext cx="3454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442280" y="254160"/>
              <a:ext cx="24382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028880" y="330120"/>
              <a:ext cx="2768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7" name=""/>
          <p:cNvSpPr/>
          <p:nvPr/>
        </p:nvSpPr>
        <p:spPr>
          <a:xfrm>
            <a:off x="177840" y="0"/>
            <a:ext cx="2743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multiples of 3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8" name=""/>
          <p:cNvGrpSpPr/>
          <p:nvPr/>
        </p:nvGrpSpPr>
        <p:grpSpPr>
          <a:xfrm>
            <a:off x="7162920" y="5346720"/>
            <a:ext cx="2198520" cy="1258920"/>
            <a:chOff x="7162920" y="5346720"/>
            <a:chExt cx="2198520" cy="1258920"/>
          </a:xfrm>
        </p:grpSpPr>
        <p:sp>
          <p:nvSpPr>
            <p:cNvPr id="239" name=""/>
            <p:cNvSpPr/>
            <p:nvPr/>
          </p:nvSpPr>
          <p:spPr>
            <a:xfrm>
              <a:off x="7162920" y="534672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886880" y="5524560"/>
              <a:ext cx="1193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4n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1" name=""/>
          <p:cNvGrpSpPr/>
          <p:nvPr/>
        </p:nvGrpSpPr>
        <p:grpSpPr>
          <a:xfrm>
            <a:off x="7061040" y="5435640"/>
            <a:ext cx="2198880" cy="1258920"/>
            <a:chOff x="7061040" y="5435640"/>
            <a:chExt cx="2198880" cy="1258920"/>
          </a:xfrm>
        </p:grpSpPr>
        <p:sp>
          <p:nvSpPr>
            <p:cNvPr id="242" name=""/>
            <p:cNvSpPr/>
            <p:nvPr/>
          </p:nvSpPr>
          <p:spPr>
            <a:xfrm>
              <a:off x="7061040" y="54356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480440" y="5626080"/>
              <a:ext cx="162540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2n-1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" name=""/>
          <p:cNvGrpSpPr/>
          <p:nvPr/>
        </p:nvGrpSpPr>
        <p:grpSpPr>
          <a:xfrm>
            <a:off x="7302600" y="5029200"/>
            <a:ext cx="2198520" cy="1258920"/>
            <a:chOff x="7302600" y="5029200"/>
            <a:chExt cx="2198520" cy="1258920"/>
          </a:xfrm>
        </p:grpSpPr>
        <p:sp>
          <p:nvSpPr>
            <p:cNvPr id="245" name=""/>
            <p:cNvSpPr/>
            <p:nvPr/>
          </p:nvSpPr>
          <p:spPr>
            <a:xfrm>
              <a:off x="7302600" y="502920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772400" y="5245200"/>
              <a:ext cx="15746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+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7" name=""/>
          <p:cNvGrpSpPr/>
          <p:nvPr/>
        </p:nvGrpSpPr>
        <p:grpSpPr>
          <a:xfrm>
            <a:off x="7594560" y="4991040"/>
            <a:ext cx="2198880" cy="1258920"/>
            <a:chOff x="7594560" y="4991040"/>
            <a:chExt cx="2198880" cy="1258920"/>
          </a:xfrm>
        </p:grpSpPr>
        <p:sp>
          <p:nvSpPr>
            <p:cNvPr id="248" name=""/>
            <p:cNvSpPr/>
            <p:nvPr/>
          </p:nvSpPr>
          <p:spPr>
            <a:xfrm>
              <a:off x="7594560" y="49910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8267760" y="5143680"/>
              <a:ext cx="1320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2n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0" name=""/>
          <p:cNvGrpSpPr/>
          <p:nvPr/>
        </p:nvGrpSpPr>
        <p:grpSpPr>
          <a:xfrm>
            <a:off x="7581960" y="5143680"/>
            <a:ext cx="2198520" cy="1258560"/>
            <a:chOff x="7581960" y="5143680"/>
            <a:chExt cx="2198520" cy="1258560"/>
          </a:xfrm>
        </p:grpSpPr>
        <p:sp>
          <p:nvSpPr>
            <p:cNvPr id="251" name=""/>
            <p:cNvSpPr/>
            <p:nvPr/>
          </p:nvSpPr>
          <p:spPr>
            <a:xfrm>
              <a:off x="7581960" y="51436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8318520" y="5423040"/>
              <a:ext cx="10666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3" name=""/>
          <p:cNvGrpSpPr/>
          <p:nvPr/>
        </p:nvGrpSpPr>
        <p:grpSpPr>
          <a:xfrm>
            <a:off x="7264440" y="5219640"/>
            <a:ext cx="2209680" cy="1258920"/>
            <a:chOff x="7264440" y="5219640"/>
            <a:chExt cx="2209680" cy="1258920"/>
          </a:xfrm>
        </p:grpSpPr>
        <p:sp>
          <p:nvSpPr>
            <p:cNvPr id="254" name=""/>
            <p:cNvSpPr/>
            <p:nvPr/>
          </p:nvSpPr>
          <p:spPr>
            <a:xfrm>
              <a:off x="7264440" y="52196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55" name=""/>
            <p:cNvGrpSpPr/>
            <p:nvPr/>
          </p:nvGrpSpPr>
          <p:grpSpPr>
            <a:xfrm>
              <a:off x="7531200" y="5334120"/>
              <a:ext cx="1942920" cy="1104480"/>
              <a:chOff x="7531200" y="5334120"/>
              <a:chExt cx="1942920" cy="1104480"/>
            </a:xfrm>
          </p:grpSpPr>
          <p:grpSp>
            <p:nvGrpSpPr>
              <p:cNvPr id="256" name=""/>
              <p:cNvGrpSpPr/>
              <p:nvPr/>
            </p:nvGrpSpPr>
            <p:grpSpPr>
              <a:xfrm>
                <a:off x="7531200" y="5334120"/>
                <a:ext cx="812880" cy="1104480"/>
                <a:chOff x="7531200" y="5334120"/>
                <a:chExt cx="812880" cy="110448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7531200" y="5842080"/>
                  <a:ext cx="81288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2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7543800" y="5334120"/>
                  <a:ext cx="73656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1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7531200" y="5870520"/>
                  <a:ext cx="284040" cy="0"/>
                </a:xfrm>
                <a:prstGeom prst="line">
                  <a:avLst/>
                </a:prstGeom>
                <a:ln w="38160">
                  <a:solidFill>
                    <a:srgbClr val="000000">
                      <a:alpha val="84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60" name=""/>
              <p:cNvSpPr/>
              <p:nvPr/>
            </p:nvSpPr>
            <p:spPr>
              <a:xfrm>
                <a:off x="7823160" y="5537160"/>
                <a:ext cx="1650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omic Sans MS - 28"/>
                  </a:rPr>
                  <a:t>n(n+1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61" name=""/>
          <p:cNvGrpSpPr/>
          <p:nvPr/>
        </p:nvGrpSpPr>
        <p:grpSpPr>
          <a:xfrm>
            <a:off x="7518240" y="5372280"/>
            <a:ext cx="2374920" cy="1258560"/>
            <a:chOff x="7518240" y="5372280"/>
            <a:chExt cx="2374920" cy="1258560"/>
          </a:xfrm>
        </p:grpSpPr>
        <p:sp>
          <p:nvSpPr>
            <p:cNvPr id="262" name=""/>
            <p:cNvSpPr/>
            <p:nvPr/>
          </p:nvSpPr>
          <p:spPr>
            <a:xfrm>
              <a:off x="7518240" y="5372280"/>
              <a:ext cx="219888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988400" y="5702400"/>
              <a:ext cx="1904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(n+1)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"/>
          <p:cNvGrpSpPr/>
          <p:nvPr/>
        </p:nvGrpSpPr>
        <p:grpSpPr>
          <a:xfrm>
            <a:off x="7302600" y="5880240"/>
            <a:ext cx="2198520" cy="1258920"/>
            <a:chOff x="7302600" y="5880240"/>
            <a:chExt cx="2198520" cy="1258920"/>
          </a:xfrm>
        </p:grpSpPr>
        <p:sp>
          <p:nvSpPr>
            <p:cNvPr id="265" name=""/>
            <p:cNvSpPr/>
            <p:nvPr/>
          </p:nvSpPr>
          <p:spPr>
            <a:xfrm>
              <a:off x="7302600" y="58802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746840" y="6159600"/>
              <a:ext cx="15750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6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-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7391520" y="5079960"/>
            <a:ext cx="2198520" cy="1258920"/>
            <a:chOff x="7391520" y="5079960"/>
            <a:chExt cx="2198520" cy="1258920"/>
          </a:xfrm>
        </p:grpSpPr>
        <p:sp>
          <p:nvSpPr>
            <p:cNvPr id="268" name=""/>
            <p:cNvSpPr/>
            <p:nvPr/>
          </p:nvSpPr>
          <p:spPr>
            <a:xfrm>
              <a:off x="7391520" y="507996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7899480" y="5270400"/>
              <a:ext cx="1600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3n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7124760" y="5600880"/>
            <a:ext cx="2198520" cy="1258560"/>
            <a:chOff x="7124760" y="5600880"/>
            <a:chExt cx="2198520" cy="1258560"/>
          </a:xfrm>
        </p:grpSpPr>
        <p:sp>
          <p:nvSpPr>
            <p:cNvPr id="271" name=""/>
            <p:cNvSpPr/>
            <p:nvPr/>
          </p:nvSpPr>
          <p:spPr>
            <a:xfrm>
              <a:off x="7124760" y="56008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721640" y="5727600"/>
              <a:ext cx="12700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200" spc="-1" strike="noStrike">
                  <a:solidFill>
                    <a:srgbClr val="000000"/>
                  </a:solidFill>
                  <a:latin typeface="Comic Sans MS - 28"/>
                </a:rPr>
                <a:t>3n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7404120" y="5423040"/>
            <a:ext cx="2198520" cy="1258920"/>
            <a:chOff x="7404120" y="5423040"/>
            <a:chExt cx="2198520" cy="1258920"/>
          </a:xfrm>
        </p:grpSpPr>
        <p:sp>
          <p:nvSpPr>
            <p:cNvPr id="274" name=""/>
            <p:cNvSpPr/>
            <p:nvPr/>
          </p:nvSpPr>
          <p:spPr>
            <a:xfrm>
              <a:off x="740412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988400" y="558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 - 28"/>
                </a:rPr>
                <a:t>6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7404120" y="5689440"/>
            <a:ext cx="2198520" cy="1258920"/>
            <a:chOff x="7404120" y="5689440"/>
            <a:chExt cx="2198520" cy="1258920"/>
          </a:xfrm>
        </p:grpSpPr>
        <p:sp>
          <p:nvSpPr>
            <p:cNvPr id="277" name=""/>
            <p:cNvSpPr/>
            <p:nvPr/>
          </p:nvSpPr>
          <p:spPr>
            <a:xfrm>
              <a:off x="7404120" y="56894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7835760" y="5943600"/>
              <a:ext cx="167652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4n+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7277040" y="5194440"/>
            <a:ext cx="2198880" cy="1258920"/>
            <a:chOff x="7277040" y="5194440"/>
            <a:chExt cx="2198880" cy="1258920"/>
          </a:xfrm>
        </p:grpSpPr>
        <p:sp>
          <p:nvSpPr>
            <p:cNvPr id="280" name=""/>
            <p:cNvSpPr/>
            <p:nvPr/>
          </p:nvSpPr>
          <p:spPr>
            <a:xfrm>
              <a:off x="7277040" y="51944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8026560" y="5448240"/>
              <a:ext cx="11937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700" spc="-1" strike="noStrike" baseline="70000">
                  <a:solidFill>
                    <a:srgbClr val="000000"/>
                  </a:solidFill>
                  <a:latin typeface="Comic Sans MS - 28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2" name=""/>
          <p:cNvGrpSpPr/>
          <p:nvPr/>
        </p:nvGrpSpPr>
        <p:grpSpPr>
          <a:xfrm>
            <a:off x="7480440" y="5423040"/>
            <a:ext cx="2198520" cy="1258920"/>
            <a:chOff x="7480440" y="5423040"/>
            <a:chExt cx="2198520" cy="1258920"/>
          </a:xfrm>
        </p:grpSpPr>
        <p:sp>
          <p:nvSpPr>
            <p:cNvPr id="283" name=""/>
            <p:cNvSpPr/>
            <p:nvPr/>
          </p:nvSpPr>
          <p:spPr>
            <a:xfrm>
              <a:off x="748044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75440" y="5727600"/>
              <a:ext cx="15242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-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5" name=""/>
          <p:cNvGrpSpPr/>
          <p:nvPr/>
        </p:nvGrpSpPr>
        <p:grpSpPr>
          <a:xfrm>
            <a:off x="7467480" y="5334120"/>
            <a:ext cx="2198880" cy="1258920"/>
            <a:chOff x="7467480" y="5334120"/>
            <a:chExt cx="2198880" cy="1258920"/>
          </a:xfrm>
        </p:grpSpPr>
        <p:sp>
          <p:nvSpPr>
            <p:cNvPr id="286" name=""/>
            <p:cNvSpPr/>
            <p:nvPr/>
          </p:nvSpPr>
          <p:spPr>
            <a:xfrm>
              <a:off x="7467480" y="533412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975440" y="5626080"/>
              <a:ext cx="1651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 - 28"/>
                </a:rPr>
                <a:t>3n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7365960" y="5626080"/>
            <a:ext cx="2198880" cy="1258920"/>
            <a:chOff x="7365960" y="5626080"/>
            <a:chExt cx="2198880" cy="1258920"/>
          </a:xfrm>
        </p:grpSpPr>
        <p:sp>
          <p:nvSpPr>
            <p:cNvPr id="289" name=""/>
            <p:cNvSpPr/>
            <p:nvPr/>
          </p:nvSpPr>
          <p:spPr>
            <a:xfrm>
              <a:off x="7365960" y="562608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7721640" y="5956200"/>
              <a:ext cx="1752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2n 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ad5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1" name=""/>
          <p:cNvGrpSpPr/>
          <p:nvPr/>
        </p:nvGrpSpPr>
        <p:grpSpPr>
          <a:xfrm>
            <a:off x="1028880" y="254160"/>
            <a:ext cx="8851680" cy="6454440"/>
            <a:chOff x="1028880" y="254160"/>
            <a:chExt cx="8851680" cy="6454440"/>
          </a:xfrm>
        </p:grpSpPr>
        <p:sp>
          <p:nvSpPr>
            <p:cNvPr id="292" name=""/>
            <p:cNvSpPr/>
            <p:nvPr/>
          </p:nvSpPr>
          <p:spPr>
            <a:xfrm>
              <a:off x="1600200" y="1387440"/>
              <a:ext cx="712008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422520" y="479520"/>
              <a:ext cx="0" cy="608796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7167600" y="504720"/>
              <a:ext cx="0" cy="620388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873600" y="291960"/>
              <a:ext cx="3454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442280" y="254160"/>
              <a:ext cx="24382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28880" y="330120"/>
              <a:ext cx="2768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8" name=""/>
          <p:cNvSpPr/>
          <p:nvPr/>
        </p:nvSpPr>
        <p:spPr>
          <a:xfrm>
            <a:off x="177840" y="0"/>
            <a:ext cx="30733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square numb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7162920" y="5346720"/>
            <a:ext cx="2198520" cy="1258920"/>
            <a:chOff x="7162920" y="5346720"/>
            <a:chExt cx="2198520" cy="1258920"/>
          </a:xfrm>
        </p:grpSpPr>
        <p:sp>
          <p:nvSpPr>
            <p:cNvPr id="300" name=""/>
            <p:cNvSpPr/>
            <p:nvPr/>
          </p:nvSpPr>
          <p:spPr>
            <a:xfrm>
              <a:off x="7162920" y="534672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7886880" y="5524560"/>
              <a:ext cx="1193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4n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7061040" y="5435640"/>
            <a:ext cx="2198880" cy="1258920"/>
            <a:chOff x="7061040" y="5435640"/>
            <a:chExt cx="2198880" cy="1258920"/>
          </a:xfrm>
        </p:grpSpPr>
        <p:sp>
          <p:nvSpPr>
            <p:cNvPr id="303" name=""/>
            <p:cNvSpPr/>
            <p:nvPr/>
          </p:nvSpPr>
          <p:spPr>
            <a:xfrm>
              <a:off x="7061040" y="54356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480440" y="5626080"/>
              <a:ext cx="162540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2n-1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5" name=""/>
          <p:cNvGrpSpPr/>
          <p:nvPr/>
        </p:nvGrpSpPr>
        <p:grpSpPr>
          <a:xfrm>
            <a:off x="7302600" y="5029200"/>
            <a:ext cx="2198520" cy="1258920"/>
            <a:chOff x="7302600" y="5029200"/>
            <a:chExt cx="2198520" cy="1258920"/>
          </a:xfrm>
        </p:grpSpPr>
        <p:sp>
          <p:nvSpPr>
            <p:cNvPr id="306" name=""/>
            <p:cNvSpPr/>
            <p:nvPr/>
          </p:nvSpPr>
          <p:spPr>
            <a:xfrm>
              <a:off x="7302600" y="502920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772400" y="5245200"/>
              <a:ext cx="15746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+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"/>
          <p:cNvGrpSpPr/>
          <p:nvPr/>
        </p:nvGrpSpPr>
        <p:grpSpPr>
          <a:xfrm>
            <a:off x="7594560" y="4991040"/>
            <a:ext cx="2198880" cy="1258920"/>
            <a:chOff x="7594560" y="4991040"/>
            <a:chExt cx="2198880" cy="1258920"/>
          </a:xfrm>
        </p:grpSpPr>
        <p:sp>
          <p:nvSpPr>
            <p:cNvPr id="309" name=""/>
            <p:cNvSpPr/>
            <p:nvPr/>
          </p:nvSpPr>
          <p:spPr>
            <a:xfrm>
              <a:off x="7594560" y="49910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8267760" y="5143680"/>
              <a:ext cx="1320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2n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1" name=""/>
          <p:cNvGrpSpPr/>
          <p:nvPr/>
        </p:nvGrpSpPr>
        <p:grpSpPr>
          <a:xfrm>
            <a:off x="7581960" y="5143680"/>
            <a:ext cx="2198520" cy="1258560"/>
            <a:chOff x="7581960" y="5143680"/>
            <a:chExt cx="2198520" cy="1258560"/>
          </a:xfrm>
        </p:grpSpPr>
        <p:sp>
          <p:nvSpPr>
            <p:cNvPr id="312" name=""/>
            <p:cNvSpPr/>
            <p:nvPr/>
          </p:nvSpPr>
          <p:spPr>
            <a:xfrm>
              <a:off x="7581960" y="51436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318520" y="5423040"/>
              <a:ext cx="10666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7264440" y="5219640"/>
            <a:ext cx="2209680" cy="1258920"/>
            <a:chOff x="7264440" y="5219640"/>
            <a:chExt cx="2209680" cy="1258920"/>
          </a:xfrm>
        </p:grpSpPr>
        <p:sp>
          <p:nvSpPr>
            <p:cNvPr id="315" name=""/>
            <p:cNvSpPr/>
            <p:nvPr/>
          </p:nvSpPr>
          <p:spPr>
            <a:xfrm>
              <a:off x="7264440" y="52196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6" name=""/>
            <p:cNvGrpSpPr/>
            <p:nvPr/>
          </p:nvGrpSpPr>
          <p:grpSpPr>
            <a:xfrm>
              <a:off x="7531200" y="5334120"/>
              <a:ext cx="1942920" cy="1104480"/>
              <a:chOff x="7531200" y="5334120"/>
              <a:chExt cx="1942920" cy="1104480"/>
            </a:xfrm>
          </p:grpSpPr>
          <p:grpSp>
            <p:nvGrpSpPr>
              <p:cNvPr id="317" name=""/>
              <p:cNvGrpSpPr/>
              <p:nvPr/>
            </p:nvGrpSpPr>
            <p:grpSpPr>
              <a:xfrm>
                <a:off x="7531200" y="5334120"/>
                <a:ext cx="812880" cy="1104480"/>
                <a:chOff x="7531200" y="5334120"/>
                <a:chExt cx="812880" cy="1104480"/>
              </a:xfrm>
            </p:grpSpPr>
            <p:sp>
              <p:nvSpPr>
                <p:cNvPr id="318" name=""/>
                <p:cNvSpPr/>
                <p:nvPr/>
              </p:nvSpPr>
              <p:spPr>
                <a:xfrm>
                  <a:off x="7531200" y="5842080"/>
                  <a:ext cx="81288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2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>
                  <a:off x="7543800" y="5334120"/>
                  <a:ext cx="73656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1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7531200" y="5870520"/>
                  <a:ext cx="284040" cy="0"/>
                </a:xfrm>
                <a:prstGeom prst="line">
                  <a:avLst/>
                </a:prstGeom>
                <a:ln w="38160">
                  <a:solidFill>
                    <a:srgbClr val="000000">
                      <a:alpha val="84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7823160" y="5537160"/>
                <a:ext cx="1650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omic Sans MS - 28"/>
                  </a:rPr>
                  <a:t>n(n+1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22" name=""/>
          <p:cNvGrpSpPr/>
          <p:nvPr/>
        </p:nvGrpSpPr>
        <p:grpSpPr>
          <a:xfrm>
            <a:off x="7518240" y="5372280"/>
            <a:ext cx="2374920" cy="1258560"/>
            <a:chOff x="7518240" y="5372280"/>
            <a:chExt cx="2374920" cy="1258560"/>
          </a:xfrm>
        </p:grpSpPr>
        <p:sp>
          <p:nvSpPr>
            <p:cNvPr id="323" name=""/>
            <p:cNvSpPr/>
            <p:nvPr/>
          </p:nvSpPr>
          <p:spPr>
            <a:xfrm>
              <a:off x="7518240" y="5372280"/>
              <a:ext cx="219888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988400" y="5702400"/>
              <a:ext cx="1904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(n+1)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302600" y="5880240"/>
            <a:ext cx="2198520" cy="1258920"/>
            <a:chOff x="7302600" y="5880240"/>
            <a:chExt cx="2198520" cy="1258920"/>
          </a:xfrm>
        </p:grpSpPr>
        <p:sp>
          <p:nvSpPr>
            <p:cNvPr id="326" name=""/>
            <p:cNvSpPr/>
            <p:nvPr/>
          </p:nvSpPr>
          <p:spPr>
            <a:xfrm>
              <a:off x="7302600" y="58802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46840" y="6159600"/>
              <a:ext cx="15750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6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-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7391520" y="5079960"/>
            <a:ext cx="2198520" cy="1258920"/>
            <a:chOff x="7391520" y="5079960"/>
            <a:chExt cx="2198520" cy="1258920"/>
          </a:xfrm>
        </p:grpSpPr>
        <p:sp>
          <p:nvSpPr>
            <p:cNvPr id="329" name=""/>
            <p:cNvSpPr/>
            <p:nvPr/>
          </p:nvSpPr>
          <p:spPr>
            <a:xfrm>
              <a:off x="7391520" y="507996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899480" y="5270400"/>
              <a:ext cx="1600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3n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7124760" y="5600880"/>
            <a:ext cx="2198520" cy="1258560"/>
            <a:chOff x="7124760" y="5600880"/>
            <a:chExt cx="2198520" cy="1258560"/>
          </a:xfrm>
        </p:grpSpPr>
        <p:sp>
          <p:nvSpPr>
            <p:cNvPr id="332" name=""/>
            <p:cNvSpPr/>
            <p:nvPr/>
          </p:nvSpPr>
          <p:spPr>
            <a:xfrm>
              <a:off x="7124760" y="56008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721640" y="5727600"/>
              <a:ext cx="12700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200" spc="-1" strike="noStrike">
                  <a:solidFill>
                    <a:srgbClr val="000000"/>
                  </a:solidFill>
                  <a:latin typeface="Comic Sans MS - 28"/>
                </a:rPr>
                <a:t>3n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7404120" y="5423040"/>
            <a:ext cx="2198520" cy="1258920"/>
            <a:chOff x="7404120" y="5423040"/>
            <a:chExt cx="2198520" cy="1258920"/>
          </a:xfrm>
        </p:grpSpPr>
        <p:sp>
          <p:nvSpPr>
            <p:cNvPr id="335" name=""/>
            <p:cNvSpPr/>
            <p:nvPr/>
          </p:nvSpPr>
          <p:spPr>
            <a:xfrm>
              <a:off x="740412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88400" y="558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 - 28"/>
                </a:rPr>
                <a:t>6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7404120" y="5689440"/>
            <a:ext cx="2198520" cy="1258920"/>
            <a:chOff x="7404120" y="5689440"/>
            <a:chExt cx="2198520" cy="1258920"/>
          </a:xfrm>
        </p:grpSpPr>
        <p:sp>
          <p:nvSpPr>
            <p:cNvPr id="338" name=""/>
            <p:cNvSpPr/>
            <p:nvPr/>
          </p:nvSpPr>
          <p:spPr>
            <a:xfrm>
              <a:off x="7404120" y="56894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7835760" y="5943600"/>
              <a:ext cx="167652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4n+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7277040" y="5194440"/>
            <a:ext cx="2198880" cy="1258920"/>
            <a:chOff x="7277040" y="5194440"/>
            <a:chExt cx="2198880" cy="1258920"/>
          </a:xfrm>
        </p:grpSpPr>
        <p:sp>
          <p:nvSpPr>
            <p:cNvPr id="341" name=""/>
            <p:cNvSpPr/>
            <p:nvPr/>
          </p:nvSpPr>
          <p:spPr>
            <a:xfrm>
              <a:off x="7277040" y="51944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26560" y="5448240"/>
              <a:ext cx="11937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700" spc="-1" strike="noStrike" baseline="70000">
                  <a:solidFill>
                    <a:srgbClr val="000000"/>
                  </a:solidFill>
                  <a:latin typeface="Comic Sans MS - 28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7480440" y="5423040"/>
            <a:ext cx="2198520" cy="1258920"/>
            <a:chOff x="7480440" y="5423040"/>
            <a:chExt cx="2198520" cy="1258920"/>
          </a:xfrm>
        </p:grpSpPr>
        <p:sp>
          <p:nvSpPr>
            <p:cNvPr id="344" name=""/>
            <p:cNvSpPr/>
            <p:nvPr/>
          </p:nvSpPr>
          <p:spPr>
            <a:xfrm>
              <a:off x="748044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7975440" y="5727600"/>
              <a:ext cx="15242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-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"/>
          <p:cNvGrpSpPr/>
          <p:nvPr/>
        </p:nvGrpSpPr>
        <p:grpSpPr>
          <a:xfrm>
            <a:off x="7467480" y="5334120"/>
            <a:ext cx="2198880" cy="1258920"/>
            <a:chOff x="7467480" y="5334120"/>
            <a:chExt cx="2198880" cy="1258920"/>
          </a:xfrm>
        </p:grpSpPr>
        <p:sp>
          <p:nvSpPr>
            <p:cNvPr id="347" name=""/>
            <p:cNvSpPr/>
            <p:nvPr/>
          </p:nvSpPr>
          <p:spPr>
            <a:xfrm>
              <a:off x="7467480" y="533412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975440" y="5626080"/>
              <a:ext cx="1651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 - 28"/>
                </a:rPr>
                <a:t>3n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9" name=""/>
          <p:cNvGrpSpPr/>
          <p:nvPr/>
        </p:nvGrpSpPr>
        <p:grpSpPr>
          <a:xfrm>
            <a:off x="7365960" y="5626080"/>
            <a:ext cx="2198880" cy="1258920"/>
            <a:chOff x="7365960" y="5626080"/>
            <a:chExt cx="2198880" cy="1258920"/>
          </a:xfrm>
        </p:grpSpPr>
        <p:sp>
          <p:nvSpPr>
            <p:cNvPr id="350" name=""/>
            <p:cNvSpPr/>
            <p:nvPr/>
          </p:nvSpPr>
          <p:spPr>
            <a:xfrm>
              <a:off x="7365960" y="562608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721640" y="5956200"/>
              <a:ext cx="1752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2n 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e6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2" name=""/>
          <p:cNvGrpSpPr/>
          <p:nvPr/>
        </p:nvGrpSpPr>
        <p:grpSpPr>
          <a:xfrm>
            <a:off x="1028880" y="254160"/>
            <a:ext cx="8851680" cy="6454440"/>
            <a:chOff x="1028880" y="254160"/>
            <a:chExt cx="8851680" cy="6454440"/>
          </a:xfrm>
        </p:grpSpPr>
        <p:sp>
          <p:nvSpPr>
            <p:cNvPr id="353" name=""/>
            <p:cNvSpPr/>
            <p:nvPr/>
          </p:nvSpPr>
          <p:spPr>
            <a:xfrm>
              <a:off x="1600200" y="1387440"/>
              <a:ext cx="712008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22520" y="479520"/>
              <a:ext cx="0" cy="608796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167600" y="504720"/>
              <a:ext cx="0" cy="620388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873600" y="291960"/>
              <a:ext cx="3454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7442280" y="254160"/>
              <a:ext cx="24382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028880" y="330120"/>
              <a:ext cx="2768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9" name=""/>
          <p:cNvSpPr/>
          <p:nvPr/>
        </p:nvSpPr>
        <p:spPr>
          <a:xfrm>
            <a:off x="177840" y="0"/>
            <a:ext cx="292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prim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7162920" y="5346720"/>
            <a:ext cx="2198520" cy="1258920"/>
            <a:chOff x="7162920" y="5346720"/>
            <a:chExt cx="2198520" cy="1258920"/>
          </a:xfrm>
        </p:grpSpPr>
        <p:sp>
          <p:nvSpPr>
            <p:cNvPr id="361" name=""/>
            <p:cNvSpPr/>
            <p:nvPr/>
          </p:nvSpPr>
          <p:spPr>
            <a:xfrm>
              <a:off x="7162920" y="534672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886880" y="5524560"/>
              <a:ext cx="1193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4n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7061040" y="5435640"/>
            <a:ext cx="2198880" cy="1258920"/>
            <a:chOff x="7061040" y="5435640"/>
            <a:chExt cx="2198880" cy="1258920"/>
          </a:xfrm>
        </p:grpSpPr>
        <p:sp>
          <p:nvSpPr>
            <p:cNvPr id="364" name=""/>
            <p:cNvSpPr/>
            <p:nvPr/>
          </p:nvSpPr>
          <p:spPr>
            <a:xfrm>
              <a:off x="7061040" y="54356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480440" y="5626080"/>
              <a:ext cx="162540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2n-1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302600" y="5029200"/>
            <a:ext cx="2198520" cy="1258920"/>
            <a:chOff x="7302600" y="5029200"/>
            <a:chExt cx="2198520" cy="1258920"/>
          </a:xfrm>
        </p:grpSpPr>
        <p:sp>
          <p:nvSpPr>
            <p:cNvPr id="367" name=""/>
            <p:cNvSpPr/>
            <p:nvPr/>
          </p:nvSpPr>
          <p:spPr>
            <a:xfrm>
              <a:off x="7302600" y="502920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245200"/>
              <a:ext cx="15746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+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7594560" y="4991040"/>
            <a:ext cx="2198880" cy="1258920"/>
            <a:chOff x="7594560" y="4991040"/>
            <a:chExt cx="2198880" cy="1258920"/>
          </a:xfrm>
        </p:grpSpPr>
        <p:sp>
          <p:nvSpPr>
            <p:cNvPr id="370" name=""/>
            <p:cNvSpPr/>
            <p:nvPr/>
          </p:nvSpPr>
          <p:spPr>
            <a:xfrm>
              <a:off x="7594560" y="49910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267760" y="5143680"/>
              <a:ext cx="1320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2n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7581960" y="5143680"/>
            <a:ext cx="2198520" cy="1258560"/>
            <a:chOff x="7581960" y="5143680"/>
            <a:chExt cx="2198520" cy="1258560"/>
          </a:xfrm>
        </p:grpSpPr>
        <p:sp>
          <p:nvSpPr>
            <p:cNvPr id="373" name=""/>
            <p:cNvSpPr/>
            <p:nvPr/>
          </p:nvSpPr>
          <p:spPr>
            <a:xfrm>
              <a:off x="7581960" y="51436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18520" y="5423040"/>
              <a:ext cx="10666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"/>
          <p:cNvGrpSpPr/>
          <p:nvPr/>
        </p:nvGrpSpPr>
        <p:grpSpPr>
          <a:xfrm>
            <a:off x="7264440" y="5219640"/>
            <a:ext cx="2209680" cy="1258920"/>
            <a:chOff x="7264440" y="5219640"/>
            <a:chExt cx="2209680" cy="1258920"/>
          </a:xfrm>
        </p:grpSpPr>
        <p:sp>
          <p:nvSpPr>
            <p:cNvPr id="376" name=""/>
            <p:cNvSpPr/>
            <p:nvPr/>
          </p:nvSpPr>
          <p:spPr>
            <a:xfrm>
              <a:off x="7264440" y="52196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77" name=""/>
            <p:cNvGrpSpPr/>
            <p:nvPr/>
          </p:nvGrpSpPr>
          <p:grpSpPr>
            <a:xfrm>
              <a:off x="7531200" y="5334120"/>
              <a:ext cx="1942920" cy="1104480"/>
              <a:chOff x="7531200" y="5334120"/>
              <a:chExt cx="1942920" cy="1104480"/>
            </a:xfrm>
          </p:grpSpPr>
          <p:grpSp>
            <p:nvGrpSpPr>
              <p:cNvPr id="378" name=""/>
              <p:cNvGrpSpPr/>
              <p:nvPr/>
            </p:nvGrpSpPr>
            <p:grpSpPr>
              <a:xfrm>
                <a:off x="7531200" y="5334120"/>
                <a:ext cx="812880" cy="1104480"/>
                <a:chOff x="7531200" y="5334120"/>
                <a:chExt cx="812880" cy="1104480"/>
              </a:xfrm>
            </p:grpSpPr>
            <p:sp>
              <p:nvSpPr>
                <p:cNvPr id="379" name=""/>
                <p:cNvSpPr/>
                <p:nvPr/>
              </p:nvSpPr>
              <p:spPr>
                <a:xfrm>
                  <a:off x="7531200" y="5842080"/>
                  <a:ext cx="81288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2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0" name=""/>
                <p:cNvSpPr/>
                <p:nvPr/>
              </p:nvSpPr>
              <p:spPr>
                <a:xfrm>
                  <a:off x="7543800" y="5334120"/>
                  <a:ext cx="73656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1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"/>
                <p:cNvSpPr/>
                <p:nvPr/>
              </p:nvSpPr>
              <p:spPr>
                <a:xfrm>
                  <a:off x="7531200" y="5870520"/>
                  <a:ext cx="284040" cy="0"/>
                </a:xfrm>
                <a:prstGeom prst="line">
                  <a:avLst/>
                </a:prstGeom>
                <a:ln w="38160">
                  <a:solidFill>
                    <a:srgbClr val="000000">
                      <a:alpha val="84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382" name=""/>
              <p:cNvSpPr/>
              <p:nvPr/>
            </p:nvSpPr>
            <p:spPr>
              <a:xfrm>
                <a:off x="7823160" y="5537160"/>
                <a:ext cx="1650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omic Sans MS - 28"/>
                  </a:rPr>
                  <a:t>n(n+1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83" name=""/>
          <p:cNvGrpSpPr/>
          <p:nvPr/>
        </p:nvGrpSpPr>
        <p:grpSpPr>
          <a:xfrm>
            <a:off x="7518240" y="5372280"/>
            <a:ext cx="2374920" cy="1258560"/>
            <a:chOff x="7518240" y="5372280"/>
            <a:chExt cx="2374920" cy="1258560"/>
          </a:xfrm>
        </p:grpSpPr>
        <p:sp>
          <p:nvSpPr>
            <p:cNvPr id="384" name=""/>
            <p:cNvSpPr/>
            <p:nvPr/>
          </p:nvSpPr>
          <p:spPr>
            <a:xfrm>
              <a:off x="7518240" y="5372280"/>
              <a:ext cx="219888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988400" y="5702400"/>
              <a:ext cx="1904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(n+1)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7302600" y="5880240"/>
            <a:ext cx="2198520" cy="1258920"/>
            <a:chOff x="7302600" y="5880240"/>
            <a:chExt cx="2198520" cy="1258920"/>
          </a:xfrm>
        </p:grpSpPr>
        <p:sp>
          <p:nvSpPr>
            <p:cNvPr id="387" name=""/>
            <p:cNvSpPr/>
            <p:nvPr/>
          </p:nvSpPr>
          <p:spPr>
            <a:xfrm>
              <a:off x="7302600" y="58802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746840" y="6159600"/>
              <a:ext cx="15750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6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-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"/>
          <p:cNvGrpSpPr/>
          <p:nvPr/>
        </p:nvGrpSpPr>
        <p:grpSpPr>
          <a:xfrm>
            <a:off x="7391520" y="5079960"/>
            <a:ext cx="2198520" cy="1258920"/>
            <a:chOff x="7391520" y="5079960"/>
            <a:chExt cx="2198520" cy="1258920"/>
          </a:xfrm>
        </p:grpSpPr>
        <p:sp>
          <p:nvSpPr>
            <p:cNvPr id="390" name=""/>
            <p:cNvSpPr/>
            <p:nvPr/>
          </p:nvSpPr>
          <p:spPr>
            <a:xfrm>
              <a:off x="7391520" y="507996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899480" y="5270400"/>
              <a:ext cx="1600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3n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7124760" y="5600880"/>
            <a:ext cx="2198520" cy="1258560"/>
            <a:chOff x="7124760" y="5600880"/>
            <a:chExt cx="2198520" cy="1258560"/>
          </a:xfrm>
        </p:grpSpPr>
        <p:sp>
          <p:nvSpPr>
            <p:cNvPr id="393" name=""/>
            <p:cNvSpPr/>
            <p:nvPr/>
          </p:nvSpPr>
          <p:spPr>
            <a:xfrm>
              <a:off x="7124760" y="56008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721640" y="5727600"/>
              <a:ext cx="12700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200" spc="-1" strike="noStrike">
                  <a:solidFill>
                    <a:srgbClr val="000000"/>
                  </a:solidFill>
                  <a:latin typeface="Comic Sans MS - 28"/>
                </a:rPr>
                <a:t>3n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7404120" y="5423040"/>
            <a:ext cx="2198520" cy="1258920"/>
            <a:chOff x="7404120" y="5423040"/>
            <a:chExt cx="2198520" cy="1258920"/>
          </a:xfrm>
        </p:grpSpPr>
        <p:sp>
          <p:nvSpPr>
            <p:cNvPr id="396" name=""/>
            <p:cNvSpPr/>
            <p:nvPr/>
          </p:nvSpPr>
          <p:spPr>
            <a:xfrm>
              <a:off x="740412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988400" y="558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 - 28"/>
                </a:rPr>
                <a:t>6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7404120" y="5689440"/>
            <a:ext cx="2198520" cy="1258920"/>
            <a:chOff x="7404120" y="5689440"/>
            <a:chExt cx="2198520" cy="1258920"/>
          </a:xfrm>
        </p:grpSpPr>
        <p:sp>
          <p:nvSpPr>
            <p:cNvPr id="399" name=""/>
            <p:cNvSpPr/>
            <p:nvPr/>
          </p:nvSpPr>
          <p:spPr>
            <a:xfrm>
              <a:off x="7404120" y="56894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7835760" y="5943600"/>
              <a:ext cx="167652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4n+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1" name=""/>
          <p:cNvGrpSpPr/>
          <p:nvPr/>
        </p:nvGrpSpPr>
        <p:grpSpPr>
          <a:xfrm>
            <a:off x="7277040" y="5194440"/>
            <a:ext cx="2198880" cy="1258920"/>
            <a:chOff x="7277040" y="5194440"/>
            <a:chExt cx="2198880" cy="1258920"/>
          </a:xfrm>
        </p:grpSpPr>
        <p:sp>
          <p:nvSpPr>
            <p:cNvPr id="402" name=""/>
            <p:cNvSpPr/>
            <p:nvPr/>
          </p:nvSpPr>
          <p:spPr>
            <a:xfrm>
              <a:off x="7277040" y="51944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8026560" y="5448240"/>
              <a:ext cx="11937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700" spc="-1" strike="noStrike" baseline="70000">
                  <a:solidFill>
                    <a:srgbClr val="000000"/>
                  </a:solidFill>
                  <a:latin typeface="Comic Sans MS - 28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4" name=""/>
          <p:cNvGrpSpPr/>
          <p:nvPr/>
        </p:nvGrpSpPr>
        <p:grpSpPr>
          <a:xfrm>
            <a:off x="7480440" y="5423040"/>
            <a:ext cx="2198520" cy="1258920"/>
            <a:chOff x="7480440" y="5423040"/>
            <a:chExt cx="2198520" cy="1258920"/>
          </a:xfrm>
        </p:grpSpPr>
        <p:sp>
          <p:nvSpPr>
            <p:cNvPr id="405" name=""/>
            <p:cNvSpPr/>
            <p:nvPr/>
          </p:nvSpPr>
          <p:spPr>
            <a:xfrm>
              <a:off x="748044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975440" y="5727600"/>
              <a:ext cx="15242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-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"/>
          <p:cNvGrpSpPr/>
          <p:nvPr/>
        </p:nvGrpSpPr>
        <p:grpSpPr>
          <a:xfrm>
            <a:off x="7467480" y="5334120"/>
            <a:ext cx="2198880" cy="1258920"/>
            <a:chOff x="7467480" y="5334120"/>
            <a:chExt cx="2198880" cy="1258920"/>
          </a:xfrm>
        </p:grpSpPr>
        <p:sp>
          <p:nvSpPr>
            <p:cNvPr id="408" name=""/>
            <p:cNvSpPr/>
            <p:nvPr/>
          </p:nvSpPr>
          <p:spPr>
            <a:xfrm>
              <a:off x="7467480" y="533412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7975440" y="5626080"/>
              <a:ext cx="1651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 - 28"/>
                </a:rPr>
                <a:t>3n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7365960" y="5626080"/>
            <a:ext cx="2198880" cy="1258920"/>
            <a:chOff x="7365960" y="5626080"/>
            <a:chExt cx="2198880" cy="1258920"/>
          </a:xfrm>
        </p:grpSpPr>
        <p:sp>
          <p:nvSpPr>
            <p:cNvPr id="411" name=""/>
            <p:cNvSpPr/>
            <p:nvPr/>
          </p:nvSpPr>
          <p:spPr>
            <a:xfrm>
              <a:off x="7365960" y="562608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7721640" y="5956200"/>
              <a:ext cx="1752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2n 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c0c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3" name=""/>
          <p:cNvGrpSpPr/>
          <p:nvPr/>
        </p:nvGrpSpPr>
        <p:grpSpPr>
          <a:xfrm>
            <a:off x="1028880" y="254160"/>
            <a:ext cx="8851680" cy="6454440"/>
            <a:chOff x="1028880" y="254160"/>
            <a:chExt cx="8851680" cy="6454440"/>
          </a:xfrm>
        </p:grpSpPr>
        <p:sp>
          <p:nvSpPr>
            <p:cNvPr id="414" name=""/>
            <p:cNvSpPr/>
            <p:nvPr/>
          </p:nvSpPr>
          <p:spPr>
            <a:xfrm>
              <a:off x="1600200" y="1387440"/>
              <a:ext cx="712008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422520" y="479520"/>
              <a:ext cx="0" cy="608796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167600" y="504720"/>
              <a:ext cx="0" cy="620388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873600" y="291960"/>
              <a:ext cx="3454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 - 28"/>
                </a:rPr>
                <a:t>sometim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442280" y="254160"/>
              <a:ext cx="243828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0" spc="-1" strike="noStrike">
                  <a:solidFill>
                    <a:srgbClr val="000000"/>
                  </a:solidFill>
                  <a:latin typeface="Comic Sans MS - 28"/>
                </a:rPr>
                <a:t>never</a:t>
              </a:r>
              <a:endParaRPr b="0" lang="en-US" sz="5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028880" y="330120"/>
              <a:ext cx="2768400" cy="88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200" spc="-1" strike="noStrike">
                  <a:solidFill>
                    <a:srgbClr val="000000"/>
                  </a:solidFill>
                  <a:latin typeface="Comic Sans MS - 28"/>
                </a:rPr>
                <a:t>always</a:t>
              </a:r>
              <a:endParaRPr b="0" lang="en-US" sz="5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0" name=""/>
          <p:cNvSpPr/>
          <p:nvPr/>
        </p:nvSpPr>
        <p:spPr>
          <a:xfrm>
            <a:off x="177840" y="0"/>
            <a:ext cx="32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triangle numb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7162920" y="5346720"/>
            <a:ext cx="2198520" cy="1258920"/>
            <a:chOff x="7162920" y="5346720"/>
            <a:chExt cx="2198520" cy="1258920"/>
          </a:xfrm>
        </p:grpSpPr>
        <p:sp>
          <p:nvSpPr>
            <p:cNvPr id="422" name=""/>
            <p:cNvSpPr/>
            <p:nvPr/>
          </p:nvSpPr>
          <p:spPr>
            <a:xfrm>
              <a:off x="7162920" y="534672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886880" y="5524560"/>
              <a:ext cx="1193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4n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4" name=""/>
          <p:cNvGrpSpPr/>
          <p:nvPr/>
        </p:nvGrpSpPr>
        <p:grpSpPr>
          <a:xfrm>
            <a:off x="7061040" y="5435640"/>
            <a:ext cx="2198880" cy="1258920"/>
            <a:chOff x="7061040" y="5435640"/>
            <a:chExt cx="2198880" cy="1258920"/>
          </a:xfrm>
        </p:grpSpPr>
        <p:sp>
          <p:nvSpPr>
            <p:cNvPr id="425" name=""/>
            <p:cNvSpPr/>
            <p:nvPr/>
          </p:nvSpPr>
          <p:spPr>
            <a:xfrm>
              <a:off x="7061040" y="54356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480440" y="5626080"/>
              <a:ext cx="162540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2n-1</a:t>
              </a:r>
              <a:endParaRPr b="0" lang="en-US" sz="39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7" name=""/>
          <p:cNvGrpSpPr/>
          <p:nvPr/>
        </p:nvGrpSpPr>
        <p:grpSpPr>
          <a:xfrm>
            <a:off x="7302600" y="5029200"/>
            <a:ext cx="2198520" cy="1258920"/>
            <a:chOff x="7302600" y="5029200"/>
            <a:chExt cx="2198520" cy="1258920"/>
          </a:xfrm>
        </p:grpSpPr>
        <p:sp>
          <p:nvSpPr>
            <p:cNvPr id="428" name=""/>
            <p:cNvSpPr/>
            <p:nvPr/>
          </p:nvSpPr>
          <p:spPr>
            <a:xfrm>
              <a:off x="7302600" y="502920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772400" y="5245200"/>
              <a:ext cx="15746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+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0" name=""/>
          <p:cNvGrpSpPr/>
          <p:nvPr/>
        </p:nvGrpSpPr>
        <p:grpSpPr>
          <a:xfrm>
            <a:off x="7594560" y="4991040"/>
            <a:ext cx="2198880" cy="1258920"/>
            <a:chOff x="7594560" y="4991040"/>
            <a:chExt cx="2198880" cy="1258920"/>
          </a:xfrm>
        </p:grpSpPr>
        <p:sp>
          <p:nvSpPr>
            <p:cNvPr id="431" name=""/>
            <p:cNvSpPr/>
            <p:nvPr/>
          </p:nvSpPr>
          <p:spPr>
            <a:xfrm>
              <a:off x="7594560" y="49910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8267760" y="5143680"/>
              <a:ext cx="132084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2n</a:t>
              </a:r>
              <a:endParaRPr b="0" lang="en-US" sz="4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3" name=""/>
          <p:cNvGrpSpPr/>
          <p:nvPr/>
        </p:nvGrpSpPr>
        <p:grpSpPr>
          <a:xfrm>
            <a:off x="7581960" y="5143680"/>
            <a:ext cx="2198520" cy="1258560"/>
            <a:chOff x="7581960" y="5143680"/>
            <a:chExt cx="2198520" cy="1258560"/>
          </a:xfrm>
        </p:grpSpPr>
        <p:sp>
          <p:nvSpPr>
            <p:cNvPr id="434" name=""/>
            <p:cNvSpPr/>
            <p:nvPr/>
          </p:nvSpPr>
          <p:spPr>
            <a:xfrm>
              <a:off x="7581960" y="51436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318520" y="5423040"/>
              <a:ext cx="10666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36" name=""/>
          <p:cNvGrpSpPr/>
          <p:nvPr/>
        </p:nvGrpSpPr>
        <p:grpSpPr>
          <a:xfrm>
            <a:off x="7264440" y="5219640"/>
            <a:ext cx="2209680" cy="1258920"/>
            <a:chOff x="7264440" y="5219640"/>
            <a:chExt cx="2209680" cy="1258920"/>
          </a:xfrm>
        </p:grpSpPr>
        <p:sp>
          <p:nvSpPr>
            <p:cNvPr id="437" name=""/>
            <p:cNvSpPr/>
            <p:nvPr/>
          </p:nvSpPr>
          <p:spPr>
            <a:xfrm>
              <a:off x="7264440" y="52196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8" name=""/>
            <p:cNvGrpSpPr/>
            <p:nvPr/>
          </p:nvGrpSpPr>
          <p:grpSpPr>
            <a:xfrm>
              <a:off x="7531200" y="5334120"/>
              <a:ext cx="1942920" cy="1104480"/>
              <a:chOff x="7531200" y="5334120"/>
              <a:chExt cx="1942920" cy="1104480"/>
            </a:xfrm>
          </p:grpSpPr>
          <p:grpSp>
            <p:nvGrpSpPr>
              <p:cNvPr id="439" name=""/>
              <p:cNvGrpSpPr/>
              <p:nvPr/>
            </p:nvGrpSpPr>
            <p:grpSpPr>
              <a:xfrm>
                <a:off x="7531200" y="5334120"/>
                <a:ext cx="812880" cy="1104480"/>
                <a:chOff x="7531200" y="5334120"/>
                <a:chExt cx="812880" cy="1104480"/>
              </a:xfrm>
            </p:grpSpPr>
            <p:sp>
              <p:nvSpPr>
                <p:cNvPr id="440" name=""/>
                <p:cNvSpPr/>
                <p:nvPr/>
              </p:nvSpPr>
              <p:spPr>
                <a:xfrm>
                  <a:off x="7531200" y="5842080"/>
                  <a:ext cx="81288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2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"/>
                <p:cNvSpPr/>
                <p:nvPr/>
              </p:nvSpPr>
              <p:spPr>
                <a:xfrm>
                  <a:off x="7543800" y="5334120"/>
                  <a:ext cx="736560" cy="596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3300" spc="-1" strike="noStrike">
                      <a:solidFill>
                        <a:srgbClr val="000000"/>
                      </a:solidFill>
                      <a:latin typeface="Comic Sans MS - 28"/>
                    </a:rPr>
                    <a:t>1</a:t>
                  </a:r>
                  <a:endParaRPr b="0" lang="en-US" sz="3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"/>
                <p:cNvSpPr/>
                <p:nvPr/>
              </p:nvSpPr>
              <p:spPr>
                <a:xfrm>
                  <a:off x="7531200" y="5870520"/>
                  <a:ext cx="284040" cy="0"/>
                </a:xfrm>
                <a:prstGeom prst="line">
                  <a:avLst/>
                </a:prstGeom>
                <a:ln w="38160">
                  <a:solidFill>
                    <a:srgbClr val="000000">
                      <a:alpha val="84000"/>
                    </a:srgbClr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3" name=""/>
              <p:cNvSpPr/>
              <p:nvPr/>
            </p:nvSpPr>
            <p:spPr>
              <a:xfrm>
                <a:off x="7823160" y="5537160"/>
                <a:ext cx="165096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3200" spc="-1" strike="noStrike">
                    <a:solidFill>
                      <a:srgbClr val="000000"/>
                    </a:solidFill>
                    <a:latin typeface="Comic Sans MS - 28"/>
                  </a:rPr>
                  <a:t>n(n+1)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444" name=""/>
          <p:cNvGrpSpPr/>
          <p:nvPr/>
        </p:nvGrpSpPr>
        <p:grpSpPr>
          <a:xfrm>
            <a:off x="7518240" y="5372280"/>
            <a:ext cx="2374920" cy="1258560"/>
            <a:chOff x="7518240" y="5372280"/>
            <a:chExt cx="2374920" cy="1258560"/>
          </a:xfrm>
        </p:grpSpPr>
        <p:sp>
          <p:nvSpPr>
            <p:cNvPr id="445" name=""/>
            <p:cNvSpPr/>
            <p:nvPr/>
          </p:nvSpPr>
          <p:spPr>
            <a:xfrm>
              <a:off x="7518240" y="5372280"/>
              <a:ext cx="219888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988400" y="5702400"/>
              <a:ext cx="1904760" cy="688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900" spc="-1" strike="noStrike">
                  <a:solidFill>
                    <a:srgbClr val="000000"/>
                  </a:solidFill>
                  <a:latin typeface="Comic Sans MS - 28"/>
                </a:rPr>
                <a:t>(n+1)</a:t>
              </a:r>
              <a:r>
                <a:rPr b="0" lang="en-GB" sz="25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endParaRPr b="0" lang="en-US" sz="2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7" name=""/>
          <p:cNvGrpSpPr/>
          <p:nvPr/>
        </p:nvGrpSpPr>
        <p:grpSpPr>
          <a:xfrm>
            <a:off x="7302600" y="5880240"/>
            <a:ext cx="2198520" cy="1258920"/>
            <a:chOff x="7302600" y="5880240"/>
            <a:chExt cx="2198520" cy="1258920"/>
          </a:xfrm>
        </p:grpSpPr>
        <p:sp>
          <p:nvSpPr>
            <p:cNvPr id="448" name=""/>
            <p:cNvSpPr/>
            <p:nvPr/>
          </p:nvSpPr>
          <p:spPr>
            <a:xfrm>
              <a:off x="7302600" y="58802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7746840" y="6159600"/>
              <a:ext cx="1575000" cy="71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600" spc="-1" strike="noStrike" baseline="70000">
                  <a:solidFill>
                    <a:srgbClr val="000000"/>
                  </a:solidFill>
                  <a:latin typeface="Comic Sans MS - 28"/>
                </a:rPr>
                <a:t>2</a:t>
              </a:r>
              <a:r>
                <a:rPr b="0" lang="en-GB" sz="4100" spc="-1" strike="noStrike">
                  <a:solidFill>
                    <a:srgbClr val="000000"/>
                  </a:solidFill>
                  <a:latin typeface="Comic Sans MS - 28"/>
                </a:rPr>
                <a:t>-1</a:t>
              </a:r>
              <a:endParaRPr b="0" lang="en-US" sz="41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0" name=""/>
          <p:cNvGrpSpPr/>
          <p:nvPr/>
        </p:nvGrpSpPr>
        <p:grpSpPr>
          <a:xfrm>
            <a:off x="7391520" y="5079960"/>
            <a:ext cx="2198520" cy="1258920"/>
            <a:chOff x="7391520" y="5079960"/>
            <a:chExt cx="2198520" cy="1258920"/>
          </a:xfrm>
        </p:grpSpPr>
        <p:sp>
          <p:nvSpPr>
            <p:cNvPr id="451" name=""/>
            <p:cNvSpPr/>
            <p:nvPr/>
          </p:nvSpPr>
          <p:spPr>
            <a:xfrm>
              <a:off x="7391520" y="507996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7899480" y="5270400"/>
              <a:ext cx="160020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3n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3" name=""/>
          <p:cNvGrpSpPr/>
          <p:nvPr/>
        </p:nvGrpSpPr>
        <p:grpSpPr>
          <a:xfrm>
            <a:off x="7124760" y="5600880"/>
            <a:ext cx="2198520" cy="1258560"/>
            <a:chOff x="7124760" y="5600880"/>
            <a:chExt cx="2198520" cy="1258560"/>
          </a:xfrm>
        </p:grpSpPr>
        <p:sp>
          <p:nvSpPr>
            <p:cNvPr id="454" name=""/>
            <p:cNvSpPr/>
            <p:nvPr/>
          </p:nvSpPr>
          <p:spPr>
            <a:xfrm>
              <a:off x="7124760" y="5600880"/>
              <a:ext cx="2198520" cy="125856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721640" y="5727600"/>
              <a:ext cx="1270080" cy="73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200" spc="-1" strike="noStrike">
                  <a:solidFill>
                    <a:srgbClr val="000000"/>
                  </a:solidFill>
                  <a:latin typeface="Comic Sans MS - 28"/>
                </a:rPr>
                <a:t>3n</a:t>
              </a:r>
              <a:endParaRPr b="0" lang="en-US" sz="4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6" name=""/>
          <p:cNvGrpSpPr/>
          <p:nvPr/>
        </p:nvGrpSpPr>
        <p:grpSpPr>
          <a:xfrm>
            <a:off x="7404120" y="5423040"/>
            <a:ext cx="2198520" cy="1258920"/>
            <a:chOff x="7404120" y="5423040"/>
            <a:chExt cx="2198520" cy="1258920"/>
          </a:xfrm>
        </p:grpSpPr>
        <p:sp>
          <p:nvSpPr>
            <p:cNvPr id="457" name=""/>
            <p:cNvSpPr/>
            <p:nvPr/>
          </p:nvSpPr>
          <p:spPr>
            <a:xfrm>
              <a:off x="740412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88400" y="5587920"/>
              <a:ext cx="144756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800" spc="-1" strike="noStrike">
                  <a:solidFill>
                    <a:srgbClr val="000000"/>
                  </a:solidFill>
                  <a:latin typeface="Comic Sans MS - 28"/>
                </a:rPr>
                <a:t>6n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9" name=""/>
          <p:cNvGrpSpPr/>
          <p:nvPr/>
        </p:nvGrpSpPr>
        <p:grpSpPr>
          <a:xfrm>
            <a:off x="7404120" y="5689440"/>
            <a:ext cx="2198520" cy="1258920"/>
            <a:chOff x="7404120" y="5689440"/>
            <a:chExt cx="2198520" cy="1258920"/>
          </a:xfrm>
        </p:grpSpPr>
        <p:sp>
          <p:nvSpPr>
            <p:cNvPr id="460" name=""/>
            <p:cNvSpPr/>
            <p:nvPr/>
          </p:nvSpPr>
          <p:spPr>
            <a:xfrm>
              <a:off x="7404120" y="56894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835760" y="5943600"/>
              <a:ext cx="167652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4n+2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2" name=""/>
          <p:cNvGrpSpPr/>
          <p:nvPr/>
        </p:nvGrpSpPr>
        <p:grpSpPr>
          <a:xfrm>
            <a:off x="7277040" y="5194440"/>
            <a:ext cx="2198880" cy="1258920"/>
            <a:chOff x="7277040" y="5194440"/>
            <a:chExt cx="2198880" cy="1258920"/>
          </a:xfrm>
        </p:grpSpPr>
        <p:sp>
          <p:nvSpPr>
            <p:cNvPr id="463" name=""/>
            <p:cNvSpPr/>
            <p:nvPr/>
          </p:nvSpPr>
          <p:spPr>
            <a:xfrm>
              <a:off x="7277040" y="519444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026560" y="5448240"/>
              <a:ext cx="1193760" cy="749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3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2700" spc="-1" strike="noStrike" baseline="70000">
                  <a:solidFill>
                    <a:srgbClr val="000000"/>
                  </a:solidFill>
                  <a:latin typeface="Comic Sans MS - 28"/>
                </a:rPr>
                <a:t>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5" name=""/>
          <p:cNvGrpSpPr/>
          <p:nvPr/>
        </p:nvGrpSpPr>
        <p:grpSpPr>
          <a:xfrm>
            <a:off x="7480440" y="5423040"/>
            <a:ext cx="2198520" cy="1258920"/>
            <a:chOff x="7480440" y="5423040"/>
            <a:chExt cx="2198520" cy="1258920"/>
          </a:xfrm>
        </p:grpSpPr>
        <p:sp>
          <p:nvSpPr>
            <p:cNvPr id="466" name=""/>
            <p:cNvSpPr/>
            <p:nvPr/>
          </p:nvSpPr>
          <p:spPr>
            <a:xfrm>
              <a:off x="7480440" y="5423040"/>
              <a:ext cx="219852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975440" y="5727600"/>
              <a:ext cx="152424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Comic Sans MS - 28"/>
                </a:rPr>
                <a:t>6n-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7467480" y="5334120"/>
            <a:ext cx="2198880" cy="1258920"/>
            <a:chOff x="7467480" y="5334120"/>
            <a:chExt cx="2198880" cy="1258920"/>
          </a:xfrm>
        </p:grpSpPr>
        <p:sp>
          <p:nvSpPr>
            <p:cNvPr id="469" name=""/>
            <p:cNvSpPr/>
            <p:nvPr/>
          </p:nvSpPr>
          <p:spPr>
            <a:xfrm>
              <a:off x="7467480" y="533412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7975440" y="5626080"/>
              <a:ext cx="1651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 - 28"/>
                </a:rPr>
                <a:t>3n-1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1" name=""/>
          <p:cNvGrpSpPr/>
          <p:nvPr/>
        </p:nvGrpSpPr>
        <p:grpSpPr>
          <a:xfrm>
            <a:off x="7365960" y="5626080"/>
            <a:ext cx="2198880" cy="1258920"/>
            <a:chOff x="7365960" y="5626080"/>
            <a:chExt cx="2198880" cy="1258920"/>
          </a:xfrm>
        </p:grpSpPr>
        <p:sp>
          <p:nvSpPr>
            <p:cNvPr id="472" name=""/>
            <p:cNvSpPr/>
            <p:nvPr/>
          </p:nvSpPr>
          <p:spPr>
            <a:xfrm>
              <a:off x="7365960" y="5626080"/>
              <a:ext cx="2198880" cy="1258920"/>
            </a:xfrm>
            <a:custGeom>
              <a:avLst/>
              <a:gdLst/>
              <a:ahLst/>
              <a:rect l="l" t="t" r="r" b="b"/>
              <a:pathLst>
                <a:path w="1385" h="793">
                  <a:moveTo>
                    <a:pt x="0" y="0"/>
                  </a:moveTo>
                  <a:lnTo>
                    <a:pt x="1384" y="0"/>
                  </a:lnTo>
                  <a:lnTo>
                    <a:pt x="1384" y="792"/>
                  </a:lnTo>
                  <a:lnTo>
                    <a:pt x="0" y="79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763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7721640" y="5956200"/>
              <a:ext cx="1752480" cy="67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800" spc="-1" strike="noStrike">
                  <a:solidFill>
                    <a:srgbClr val="000000"/>
                  </a:solidFill>
                  <a:latin typeface="Comic Sans MS - 28"/>
                </a:rPr>
                <a:t>2n +1</a:t>
              </a:r>
              <a:endParaRPr b="0" lang="en-US" sz="3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0e0d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"/>
          <p:cNvSpPr/>
          <p:nvPr/>
        </p:nvSpPr>
        <p:spPr>
          <a:xfrm>
            <a:off x="495360" y="5257800"/>
            <a:ext cx="9323280" cy="1411200"/>
          </a:xfrm>
          <a:custGeom>
            <a:avLst/>
            <a:gdLst/>
            <a:ahLst/>
            <a:rect l="l" t="t" r="r" b="b"/>
            <a:pathLst>
              <a:path w="5873" h="889">
                <a:moveTo>
                  <a:pt x="0" y="0"/>
                </a:moveTo>
                <a:lnTo>
                  <a:pt x="5872" y="0"/>
                </a:lnTo>
                <a:lnTo>
                  <a:pt x="5872" y="888"/>
                </a:lnTo>
                <a:lnTo>
                  <a:pt x="0" y="88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1460520" y="101520"/>
            <a:ext cx="7227720" cy="5018040"/>
          </a:xfrm>
          <a:custGeom>
            <a:avLst/>
            <a:gdLst/>
            <a:ahLst/>
            <a:rect l="l" t="t" r="r" b="b"/>
            <a:pathLst>
              <a:path w="4553" h="3161">
                <a:moveTo>
                  <a:pt x="0" y="0"/>
                </a:moveTo>
                <a:lnTo>
                  <a:pt x="4552" y="0"/>
                </a:lnTo>
                <a:lnTo>
                  <a:pt x="4552" y="3160"/>
                </a:lnTo>
                <a:lnTo>
                  <a:pt x="0" y="31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6" name=""/>
          <p:cNvGrpSpPr/>
          <p:nvPr/>
        </p:nvGrpSpPr>
        <p:grpSpPr>
          <a:xfrm>
            <a:off x="1917720" y="152280"/>
            <a:ext cx="5892840" cy="4632840"/>
            <a:chOff x="1917720" y="152280"/>
            <a:chExt cx="5892840" cy="4632840"/>
          </a:xfrm>
        </p:grpSpPr>
        <p:sp>
          <p:nvSpPr>
            <p:cNvPr id="477" name=""/>
            <p:cNvSpPr/>
            <p:nvPr/>
          </p:nvSpPr>
          <p:spPr>
            <a:xfrm>
              <a:off x="1930320" y="152280"/>
              <a:ext cx="5842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Comic Sans MS - 28"/>
                </a:rPr>
                <a:t>Prove the sum of 2 odd numbers is even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1955880" y="1790640"/>
              <a:ext cx="20066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Comic Sans MS - 28"/>
                </a:rPr>
                <a:t>2n +1 is od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1981080" y="2235240"/>
              <a:ext cx="208296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Comic Sans MS - 28"/>
                </a:rPr>
                <a:t>2m +1 is odd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1968480" y="1244520"/>
              <a:ext cx="41148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Comic Sans MS - 28"/>
                </a:rPr>
                <a:t>Let n and m be any integer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1917720" y="3149640"/>
              <a:ext cx="4267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Lucida Sans Unicode - 28"/>
                </a:rPr>
                <a:t>∴ </a:t>
              </a:r>
              <a:r>
                <a:rPr b="0" lang="pt-BR" sz="2200" spc="-1" strike="noStrike">
                  <a:solidFill>
                    <a:srgbClr val="000000"/>
                  </a:solidFill>
                  <a:latin typeface="Comic Sans MS - 28"/>
                </a:rPr>
                <a:t>2n +1 + 2m +1 = 2n +2m +2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Comic Sans MS - 28"/>
                </a:rPr>
                <a:t>                         </a:t>
              </a:r>
              <a:r>
                <a:rPr b="0" lang="en-GB" sz="2200" spc="-1" strike="noStrike">
                  <a:solidFill>
                    <a:srgbClr val="000000"/>
                  </a:solidFill>
                  <a:latin typeface="Comic Sans MS - 28"/>
                </a:rPr>
                <a:t>=2(n+m+1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33640" y="4356000"/>
              <a:ext cx="487692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200" spc="-1" strike="noStrike">
                  <a:solidFill>
                    <a:srgbClr val="000000"/>
                  </a:solidFill>
                  <a:latin typeface="Comic Sans MS - 28"/>
                </a:rPr>
                <a:t>This is a multiple of 2 so is even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3" name=""/>
          <p:cNvSpPr/>
          <p:nvPr/>
        </p:nvSpPr>
        <p:spPr>
          <a:xfrm>
            <a:off x="635040" y="5308560"/>
            <a:ext cx="87883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A Prove the difference of 2 odd numbers is eve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B Prove the product of two odd numbers is odd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994040" y="1244520"/>
            <a:ext cx="4840200" cy="1474920"/>
          </a:xfrm>
          <a:custGeom>
            <a:avLst/>
            <a:gdLst/>
            <a:ahLst/>
            <a:rect l="l" t="t" r="r" b="b"/>
            <a:pathLst>
              <a:path w="3049" h="929">
                <a:moveTo>
                  <a:pt x="0" y="0"/>
                </a:moveTo>
                <a:lnTo>
                  <a:pt x="3048" y="0"/>
                </a:lnTo>
                <a:lnTo>
                  <a:pt x="3048" y="928"/>
                </a:lnTo>
                <a:lnTo>
                  <a:pt x="0" y="92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1854360" y="3048120"/>
            <a:ext cx="5640120" cy="1106280"/>
          </a:xfrm>
          <a:custGeom>
            <a:avLst/>
            <a:gdLst/>
            <a:ahLst/>
            <a:rect l="l" t="t" r="r" b="b"/>
            <a:pathLst>
              <a:path w="3553" h="697">
                <a:moveTo>
                  <a:pt x="0" y="0"/>
                </a:moveTo>
                <a:lnTo>
                  <a:pt x="3552" y="0"/>
                </a:lnTo>
                <a:lnTo>
                  <a:pt x="3552" y="696"/>
                </a:lnTo>
                <a:lnTo>
                  <a:pt x="0" y="69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2971800" y="4280040"/>
            <a:ext cx="4840200" cy="610920"/>
          </a:xfrm>
          <a:custGeom>
            <a:avLst/>
            <a:gdLst/>
            <a:ahLst/>
            <a:rect l="l" t="t" r="r" b="b"/>
            <a:pathLst>
              <a:path w="3049" h="385">
                <a:moveTo>
                  <a:pt x="0" y="0"/>
                </a:moveTo>
                <a:lnTo>
                  <a:pt x="3048" y="0"/>
                </a:lnTo>
                <a:lnTo>
                  <a:pt x="3048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0:29:58Z</dcterms:created>
  <dc:creator>image</dc:creator>
  <dc:description/>
  <dc:language>en-US</dc:language>
  <cp:lastModifiedBy>image</cp:lastModifiedBy>
  <dcterms:modified xsi:type="dcterms:W3CDTF">2011-04-19T10:29:58Z</dcterms:modified>
  <cp:revision>1</cp:revision>
  <dc:subject/>
  <dc:title>Slide 1</dc:title>
</cp:coreProperties>
</file>